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ED65-1A62-40B2-8886-50739957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32D9-A611-48AF-9582-3729D308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B86-8469-4B2B-907B-12E003D5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9E03-6196-4C27-B295-AC598CCD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11B-A547-46D4-884E-D4B255D1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325-AB74-4E21-A34A-8D335142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0DA-F7CA-476C-BC8C-D4951758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DE5-2B6F-4573-9877-71C9A741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F9F5-53D9-4309-913C-92E92835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F20-94EB-4CB6-ABE9-088D48F9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1CD-6CB5-4763-9248-8EA9EE7B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C6C-0E30-409D-AB03-6AFC32B1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56AF-1463-4ADA-80FE-51F48B568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 - 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523880" y="1752480"/>
                <a:ext cx="9144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671400" y="32781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295280" y="3251160"/>
                <a:ext cx="13716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2178000" y="1455840"/>
            <a:ext cx="4394160" cy="1160280"/>
          </a:xfrm>
          <a:custGeom>
            <a:avLst/>
            <a:gdLst/>
            <a:ahLst/>
            <a:rect l="l" t="t" r="r" b="b"/>
            <a:pathLst>
              <a:path w="12205" h="3226">
                <a:moveTo>
                  <a:pt x="6052" y="6648"/>
                </a:moveTo>
                <a:cubicBezTo>
                  <a:pt x="6101" y="6599"/>
                  <a:pt x="6153" y="6582"/>
                  <a:pt x="6226" y="6573"/>
                </a:cubicBezTo>
                <a:cubicBezTo>
                  <a:pt x="6332" y="6561"/>
                  <a:pt x="6427" y="6582"/>
                  <a:pt x="6524" y="6598"/>
                </a:cubicBezTo>
                <a:cubicBezTo>
                  <a:pt x="6634" y="6616"/>
                  <a:pt x="6760" y="6598"/>
                  <a:pt x="6871" y="6598"/>
                </a:cubicBezTo>
              </a:path>
              <a:path w="12205" h="3226">
                <a:moveTo>
                  <a:pt x="6375" y="6871"/>
                </a:moveTo>
                <a:cubicBezTo>
                  <a:pt x="6390" y="6955"/>
                  <a:pt x="6395" y="7008"/>
                  <a:pt x="6400" y="7094"/>
                </a:cubicBezTo>
                <a:cubicBezTo>
                  <a:pt x="6403" y="7152"/>
                  <a:pt x="6400" y="7210"/>
                  <a:pt x="6400" y="7268"/>
                </a:cubicBezTo>
              </a:path>
              <a:path w="12205" h="3226">
                <a:moveTo>
                  <a:pt x="7392" y="6350"/>
                </a:moveTo>
                <a:cubicBezTo>
                  <a:pt x="7494" y="6306"/>
                  <a:pt x="7602" y="6326"/>
                  <a:pt x="7714" y="6350"/>
                </a:cubicBezTo>
              </a:path>
              <a:path w="12205" h="3226">
                <a:moveTo>
                  <a:pt x="7541" y="6548"/>
                </a:moveTo>
                <a:cubicBezTo>
                  <a:pt x="7619" y="6548"/>
                  <a:pt x="7636" y="6563"/>
                  <a:pt x="7665" y="6524"/>
                </a:cubicBezTo>
              </a:path>
              <a:path w="12205" h="3226">
                <a:moveTo>
                  <a:pt x="8855" y="5581"/>
                </a:moveTo>
                <a:cubicBezTo>
                  <a:pt x="8856" y="5424"/>
                  <a:pt x="8809" y="5346"/>
                  <a:pt x="8657" y="5308"/>
                </a:cubicBezTo>
                <a:cubicBezTo>
                  <a:pt x="8574" y="5424"/>
                  <a:pt x="8293" y="5868"/>
                  <a:pt x="8657" y="5854"/>
                </a:cubicBezTo>
                <a:cubicBezTo>
                  <a:pt x="8821" y="5783"/>
                  <a:pt x="8873" y="5765"/>
                  <a:pt x="8930" y="5655"/>
                </a:cubicBezTo>
              </a:path>
              <a:path w="12205" h="3226">
                <a:moveTo>
                  <a:pt x="8830" y="5407"/>
                </a:moveTo>
                <a:cubicBezTo>
                  <a:pt x="8774" y="5602"/>
                  <a:pt x="8801" y="5826"/>
                  <a:pt x="8830" y="6028"/>
                </a:cubicBezTo>
                <a:cubicBezTo>
                  <a:pt x="8838" y="6061"/>
                  <a:pt x="8847" y="6094"/>
                  <a:pt x="8855" y="6127"/>
                </a:cubicBezTo>
              </a:path>
              <a:path w="12205" h="3226">
                <a:moveTo>
                  <a:pt x="8260" y="6449"/>
                </a:moveTo>
                <a:cubicBezTo>
                  <a:pt x="8508" y="6449"/>
                  <a:pt x="8758" y="6423"/>
                  <a:pt x="9004" y="6400"/>
                </a:cubicBezTo>
                <a:cubicBezTo>
                  <a:pt x="9186" y="6380"/>
                  <a:pt x="9219" y="6371"/>
                  <a:pt x="9327" y="6375"/>
                </a:cubicBezTo>
              </a:path>
              <a:path w="12205" h="3226">
                <a:moveTo>
                  <a:pt x="8830" y="6672"/>
                </a:moveTo>
                <a:cubicBezTo>
                  <a:pt x="8786" y="6762"/>
                  <a:pt x="8773" y="6785"/>
                  <a:pt x="8756" y="6846"/>
                </a:cubicBezTo>
                <a:cubicBezTo>
                  <a:pt x="8891" y="6894"/>
                  <a:pt x="8936" y="6896"/>
                  <a:pt x="9079" y="6871"/>
                </a:cubicBezTo>
              </a:path>
              <a:path w="12205" h="3226">
                <a:moveTo>
                  <a:pt x="8979" y="6499"/>
                </a:moveTo>
                <a:cubicBezTo>
                  <a:pt x="8949" y="6745"/>
                  <a:pt x="8938" y="6994"/>
                  <a:pt x="8930" y="7243"/>
                </a:cubicBezTo>
                <a:cubicBezTo>
                  <a:pt x="8930" y="7251"/>
                  <a:pt x="8930" y="7260"/>
                  <a:pt x="8930" y="7268"/>
                </a:cubicBezTo>
              </a:path>
              <a:path w="12205" h="3226">
                <a:moveTo>
                  <a:pt x="9947" y="6201"/>
                </a:moveTo>
                <a:cubicBezTo>
                  <a:pt x="10048" y="6171"/>
                  <a:pt x="10145" y="6138"/>
                  <a:pt x="10244" y="6102"/>
                </a:cubicBezTo>
              </a:path>
              <a:path w="12205" h="3226">
                <a:moveTo>
                  <a:pt x="10021" y="6375"/>
                </a:moveTo>
                <a:cubicBezTo>
                  <a:pt x="10104" y="6369"/>
                  <a:pt x="10186" y="6358"/>
                  <a:pt x="10269" y="6350"/>
                </a:cubicBezTo>
              </a:path>
              <a:path w="12205" h="3226">
                <a:moveTo>
                  <a:pt x="8830" y="5680"/>
                </a:moveTo>
                <a:lnTo>
                  <a:pt x="8830" y="5680"/>
                </a:lnTo>
              </a:path>
              <a:path w="12205" h="3226">
                <a:moveTo>
                  <a:pt x="8260" y="6400"/>
                </a:moveTo>
                <a:cubicBezTo>
                  <a:pt x="8242" y="6308"/>
                  <a:pt x="8341" y="6303"/>
                  <a:pt x="8434" y="6300"/>
                </a:cubicBezTo>
                <a:cubicBezTo>
                  <a:pt x="8537" y="6297"/>
                  <a:pt x="8609" y="6265"/>
                  <a:pt x="8706" y="6251"/>
                </a:cubicBezTo>
                <a:cubicBezTo>
                  <a:pt x="8797" y="6238"/>
                  <a:pt x="8869" y="6210"/>
                  <a:pt x="8954" y="6201"/>
                </a:cubicBezTo>
                <a:cubicBezTo>
                  <a:pt x="9037" y="6192"/>
                  <a:pt x="9099" y="6215"/>
                  <a:pt x="9178" y="6226"/>
                </a:cubicBezTo>
                <a:cubicBezTo>
                  <a:pt x="9253" y="6236"/>
                  <a:pt x="9330" y="6241"/>
                  <a:pt x="9401" y="6251"/>
                </a:cubicBezTo>
                <a:cubicBezTo>
                  <a:pt x="9418" y="6251"/>
                  <a:pt x="9434" y="6251"/>
                  <a:pt x="9451" y="6251"/>
                </a:cubicBezTo>
                <a:cubicBezTo>
                  <a:pt x="9316" y="6275"/>
                  <a:pt x="9191" y="6276"/>
                  <a:pt x="9054" y="6276"/>
                </a:cubicBezTo>
                <a:cubicBezTo>
                  <a:pt x="8964" y="6276"/>
                  <a:pt x="8827" y="6283"/>
                  <a:pt x="8756" y="6325"/>
                </a:cubicBezTo>
                <a:cubicBezTo>
                  <a:pt x="8646" y="6391"/>
                  <a:pt x="8589" y="6443"/>
                  <a:pt x="8458" y="6449"/>
                </a:cubicBezTo>
                <a:cubicBezTo>
                  <a:pt x="8387" y="6452"/>
                  <a:pt x="8334" y="6471"/>
                  <a:pt x="8260" y="6474"/>
                </a:cubicBezTo>
                <a:cubicBezTo>
                  <a:pt x="8202" y="6477"/>
                  <a:pt x="8144" y="6474"/>
                  <a:pt x="8086" y="6474"/>
                </a:cubicBezTo>
                <a:cubicBezTo>
                  <a:pt x="8262" y="6415"/>
                  <a:pt x="8447" y="6323"/>
                  <a:pt x="8632" y="6300"/>
                </a:cubicBezTo>
                <a:cubicBezTo>
                  <a:pt x="8739" y="6287"/>
                  <a:pt x="8846" y="6276"/>
                  <a:pt x="8954" y="6276"/>
                </a:cubicBezTo>
                <a:cubicBezTo>
                  <a:pt x="9054" y="6276"/>
                  <a:pt x="9136" y="6266"/>
                  <a:pt x="9227" y="6251"/>
                </a:cubicBezTo>
                <a:cubicBezTo>
                  <a:pt x="9309" y="6238"/>
                  <a:pt x="9395" y="6211"/>
                  <a:pt x="9475" y="6201"/>
                </a:cubicBezTo>
                <a:cubicBezTo>
                  <a:pt x="9508" y="6201"/>
                  <a:pt x="9525" y="6201"/>
                  <a:pt x="9550" y="6201"/>
                </a:cubicBezTo>
              </a:path>
              <a:path w="12205" h="3226">
                <a:moveTo>
                  <a:pt x="12526" y="6028"/>
                </a:moveTo>
                <a:cubicBezTo>
                  <a:pt x="12493" y="5916"/>
                  <a:pt x="12437" y="5869"/>
                  <a:pt x="12353" y="5779"/>
                </a:cubicBezTo>
                <a:cubicBezTo>
                  <a:pt x="12111" y="5915"/>
                  <a:pt x="12106" y="6102"/>
                  <a:pt x="12080" y="6375"/>
                </a:cubicBezTo>
                <a:cubicBezTo>
                  <a:pt x="12285" y="6348"/>
                  <a:pt x="12539" y="6245"/>
                  <a:pt x="12576" y="5978"/>
                </a:cubicBezTo>
                <a:cubicBezTo>
                  <a:pt x="12552" y="5930"/>
                  <a:pt x="12544" y="5916"/>
                  <a:pt x="12551" y="5879"/>
                </a:cubicBezTo>
                <a:cubicBezTo>
                  <a:pt x="12566" y="6160"/>
                  <a:pt x="12595" y="6440"/>
                  <a:pt x="12601" y="6722"/>
                </a:cubicBezTo>
                <a:cubicBezTo>
                  <a:pt x="12601" y="6739"/>
                  <a:pt x="12601" y="6755"/>
                  <a:pt x="12601" y="6772"/>
                </a:cubicBezTo>
              </a:path>
              <a:path w="12205" h="3226">
                <a:moveTo>
                  <a:pt x="11906" y="7069"/>
                </a:moveTo>
                <a:cubicBezTo>
                  <a:pt x="11863" y="6862"/>
                  <a:pt x="11818" y="6653"/>
                  <a:pt x="11757" y="6449"/>
                </a:cubicBezTo>
                <a:cubicBezTo>
                  <a:pt x="11703" y="6269"/>
                  <a:pt x="11654" y="6077"/>
                  <a:pt x="11584" y="5904"/>
                </a:cubicBezTo>
                <a:cubicBezTo>
                  <a:pt x="12017" y="5811"/>
                  <a:pt x="12456" y="5694"/>
                  <a:pt x="12898" y="5655"/>
                </a:cubicBezTo>
                <a:cubicBezTo>
                  <a:pt x="13032" y="5643"/>
                  <a:pt x="13175" y="5663"/>
                  <a:pt x="13295" y="5631"/>
                </a:cubicBezTo>
              </a:path>
              <a:path w="12205" h="3226">
                <a:moveTo>
                  <a:pt x="10939" y="6424"/>
                </a:moveTo>
                <a:cubicBezTo>
                  <a:pt x="10939" y="6538"/>
                  <a:pt x="10934" y="6636"/>
                  <a:pt x="10914" y="6747"/>
                </a:cubicBezTo>
                <a:cubicBezTo>
                  <a:pt x="11111" y="6726"/>
                  <a:pt x="11261" y="6671"/>
                  <a:pt x="11435" y="6573"/>
                </a:cubicBezTo>
              </a:path>
              <a:path w="12205" h="3226">
                <a:moveTo>
                  <a:pt x="11162" y="6152"/>
                </a:moveTo>
                <a:cubicBezTo>
                  <a:pt x="11209" y="6465"/>
                  <a:pt x="11255" y="6779"/>
                  <a:pt x="11286" y="7094"/>
                </a:cubicBezTo>
                <a:cubicBezTo>
                  <a:pt x="11286" y="7111"/>
                  <a:pt x="11286" y="7127"/>
                  <a:pt x="11286" y="7144"/>
                </a:cubicBezTo>
              </a:path>
              <a:path w="12205" h="3226">
                <a:moveTo>
                  <a:pt x="14139" y="5854"/>
                </a:moveTo>
                <a:cubicBezTo>
                  <a:pt x="14264" y="5849"/>
                  <a:pt x="14363" y="5843"/>
                  <a:pt x="14486" y="5829"/>
                </a:cubicBezTo>
              </a:path>
              <a:path w="12205" h="3226">
                <a:moveTo>
                  <a:pt x="14238" y="6201"/>
                </a:moveTo>
                <a:cubicBezTo>
                  <a:pt x="14361" y="6189"/>
                  <a:pt x="14443" y="6176"/>
                  <a:pt x="14560" y="6127"/>
                </a:cubicBezTo>
              </a:path>
              <a:path w="12205" h="3226">
                <a:moveTo>
                  <a:pt x="15528" y="5432"/>
                </a:moveTo>
                <a:cubicBezTo>
                  <a:pt x="15546" y="5250"/>
                  <a:pt x="15622" y="5180"/>
                  <a:pt x="15776" y="5085"/>
                </a:cubicBezTo>
                <a:cubicBezTo>
                  <a:pt x="15912" y="5001"/>
                  <a:pt x="16067" y="5059"/>
                  <a:pt x="16073" y="5234"/>
                </a:cubicBezTo>
                <a:cubicBezTo>
                  <a:pt x="16086" y="5618"/>
                  <a:pt x="15791" y="5899"/>
                  <a:pt x="15602" y="6201"/>
                </a:cubicBezTo>
                <a:cubicBezTo>
                  <a:pt x="15533" y="6311"/>
                  <a:pt x="15473" y="6470"/>
                  <a:pt x="15404" y="6573"/>
                </a:cubicBezTo>
                <a:cubicBezTo>
                  <a:pt x="15404" y="6565"/>
                  <a:pt x="15404" y="6556"/>
                  <a:pt x="15404" y="6548"/>
                </a:cubicBezTo>
                <a:cubicBezTo>
                  <a:pt x="15486" y="6406"/>
                  <a:pt x="15576" y="6281"/>
                  <a:pt x="15677" y="6152"/>
                </a:cubicBezTo>
                <a:cubicBezTo>
                  <a:pt x="15823" y="6207"/>
                  <a:pt x="15778" y="6326"/>
                  <a:pt x="15850" y="6449"/>
                </a:cubicBezTo>
                <a:cubicBezTo>
                  <a:pt x="15989" y="6685"/>
                  <a:pt x="16197" y="6396"/>
                  <a:pt x="16272" y="6276"/>
                </a:cubicBezTo>
                <a:cubicBezTo>
                  <a:pt x="16272" y="6268"/>
                  <a:pt x="16272" y="6259"/>
                  <a:pt x="16272" y="6251"/>
                </a:cubicBezTo>
              </a:path>
              <a:path w="12205" h="3226">
                <a:moveTo>
                  <a:pt x="17041" y="4787"/>
                </a:moveTo>
                <a:cubicBezTo>
                  <a:pt x="17041" y="4987"/>
                  <a:pt x="17062" y="5183"/>
                  <a:pt x="17066" y="5383"/>
                </a:cubicBezTo>
                <a:cubicBezTo>
                  <a:pt x="17066" y="5416"/>
                  <a:pt x="17066" y="5449"/>
                  <a:pt x="17066" y="5482"/>
                </a:cubicBezTo>
              </a:path>
              <a:path w="12205" h="3226">
                <a:moveTo>
                  <a:pt x="16793" y="5705"/>
                </a:moveTo>
                <a:cubicBezTo>
                  <a:pt x="16985" y="5629"/>
                  <a:pt x="17165" y="5558"/>
                  <a:pt x="17363" y="5507"/>
                </a:cubicBezTo>
              </a:path>
              <a:path w="12205" h="3226">
                <a:moveTo>
                  <a:pt x="17115" y="5978"/>
                </a:moveTo>
                <a:cubicBezTo>
                  <a:pt x="17093" y="6086"/>
                  <a:pt x="17090" y="6112"/>
                  <a:pt x="17066" y="6176"/>
                </a:cubicBezTo>
                <a:cubicBezTo>
                  <a:pt x="17177" y="6160"/>
                  <a:pt x="17275" y="6152"/>
                  <a:pt x="17388" y="6152"/>
                </a:cubicBezTo>
              </a:path>
              <a:path w="12205" h="3226">
                <a:moveTo>
                  <a:pt x="17289" y="5680"/>
                </a:moveTo>
                <a:cubicBezTo>
                  <a:pt x="17289" y="5938"/>
                  <a:pt x="17269" y="6192"/>
                  <a:pt x="17264" y="6449"/>
                </a:cubicBezTo>
                <a:cubicBezTo>
                  <a:pt x="17264" y="6482"/>
                  <a:pt x="17264" y="6515"/>
                  <a:pt x="17264" y="6548"/>
                </a:cubicBezTo>
              </a:path>
              <a:path w="12205" h="3226">
                <a:moveTo>
                  <a:pt x="15329" y="7193"/>
                </a:moveTo>
                <a:cubicBezTo>
                  <a:pt x="15583" y="7193"/>
                  <a:pt x="15823" y="7172"/>
                  <a:pt x="16073" y="7119"/>
                </a:cubicBezTo>
                <a:cubicBezTo>
                  <a:pt x="16503" y="7028"/>
                  <a:pt x="16912" y="6924"/>
                  <a:pt x="17314" y="6747"/>
                </a:cubicBezTo>
                <a:cubicBezTo>
                  <a:pt x="17626" y="6609"/>
                  <a:pt x="17965" y="6472"/>
                  <a:pt x="18132" y="6152"/>
                </a:cubicBezTo>
                <a:cubicBezTo>
                  <a:pt x="18236" y="5952"/>
                  <a:pt x="18266" y="5605"/>
                  <a:pt x="18256" y="5383"/>
                </a:cubicBezTo>
                <a:cubicBezTo>
                  <a:pt x="18244" y="5126"/>
                  <a:pt x="18156" y="4908"/>
                  <a:pt x="18033" y="4688"/>
                </a:cubicBezTo>
                <a:cubicBezTo>
                  <a:pt x="17906" y="4461"/>
                  <a:pt x="17780" y="4263"/>
                  <a:pt x="17537" y="4142"/>
                </a:cubicBezTo>
                <a:cubicBezTo>
                  <a:pt x="17319" y="4033"/>
                  <a:pt x="17126" y="4039"/>
                  <a:pt x="16892" y="4068"/>
                </a:cubicBezTo>
                <a:cubicBezTo>
                  <a:pt x="16636" y="4100"/>
                  <a:pt x="16365" y="4204"/>
                  <a:pt x="16123" y="4291"/>
                </a:cubicBezTo>
                <a:cubicBezTo>
                  <a:pt x="15884" y="4377"/>
                  <a:pt x="15647" y="4496"/>
                  <a:pt x="15453" y="4663"/>
                </a:cubicBezTo>
                <a:cubicBezTo>
                  <a:pt x="15282" y="4810"/>
                  <a:pt x="15088" y="4948"/>
                  <a:pt x="14957" y="5135"/>
                </a:cubicBezTo>
                <a:cubicBezTo>
                  <a:pt x="14837" y="5306"/>
                  <a:pt x="14765" y="5421"/>
                  <a:pt x="14759" y="5631"/>
                </a:cubicBezTo>
                <a:cubicBezTo>
                  <a:pt x="14751" y="5900"/>
                  <a:pt x="14769" y="6178"/>
                  <a:pt x="14883" y="6424"/>
                </a:cubicBezTo>
                <a:cubicBezTo>
                  <a:pt x="14946" y="6560"/>
                  <a:pt x="15041" y="6680"/>
                  <a:pt x="15131" y="6796"/>
                </a:cubicBezTo>
                <a:cubicBezTo>
                  <a:pt x="15157" y="6874"/>
                  <a:pt x="15168" y="6901"/>
                  <a:pt x="15230" y="6921"/>
                </a:cubicBezTo>
              </a:path>
              <a:path w="12205" h="3226">
                <a:moveTo>
                  <a:pt x="8161" y="6474"/>
                </a:moveTo>
                <a:cubicBezTo>
                  <a:pt x="8326" y="6424"/>
                  <a:pt x="8508" y="6460"/>
                  <a:pt x="8682" y="6449"/>
                </a:cubicBezTo>
                <a:cubicBezTo>
                  <a:pt x="8834" y="6439"/>
                  <a:pt x="8976" y="6424"/>
                  <a:pt x="9128" y="6424"/>
                </a:cubicBezTo>
                <a:cubicBezTo>
                  <a:pt x="9213" y="6424"/>
                  <a:pt x="9213" y="6424"/>
                  <a:pt x="9128" y="6424"/>
                </a:cubicBezTo>
                <a:cubicBezTo>
                  <a:pt x="8908" y="6424"/>
                  <a:pt x="8671" y="6409"/>
                  <a:pt x="8458" y="6474"/>
                </a:cubicBezTo>
                <a:cubicBezTo>
                  <a:pt x="8425" y="6491"/>
                  <a:pt x="8392" y="6507"/>
                  <a:pt x="8359" y="6524"/>
                </a:cubicBezTo>
                <a:cubicBezTo>
                  <a:pt x="8663" y="6441"/>
                  <a:pt x="8970" y="6367"/>
                  <a:pt x="9277" y="6300"/>
                </a:cubicBezTo>
                <a:cubicBezTo>
                  <a:pt x="9351" y="6284"/>
                  <a:pt x="9178" y="6314"/>
                  <a:pt x="9103" y="6325"/>
                </a:cubicBezTo>
              </a:path>
              <a:path w="12205" h="3226">
                <a:moveTo>
                  <a:pt x="8855" y="6499"/>
                </a:moveTo>
                <a:lnTo>
                  <a:pt x="8855" y="6499"/>
                </a:lnTo>
              </a:path>
              <a:path w="12205" h="3226">
                <a:moveTo>
                  <a:pt x="8880" y="6449"/>
                </a:moveTo>
                <a:lnTo>
                  <a:pt x="8880" y="6449"/>
                </a:lnTo>
              </a:path>
              <a:path w="12205" h="3226">
                <a:moveTo>
                  <a:pt x="8954" y="6375"/>
                </a:moveTo>
                <a:lnTo>
                  <a:pt x="8954" y="6375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41880" y="1677960"/>
            <a:ext cx="206280" cy="268200"/>
          </a:xfrm>
          <a:custGeom>
            <a:avLst/>
            <a:gdLst/>
            <a:ahLst/>
            <a:rect l="l" t="t" r="r" b="b"/>
            <a:pathLst>
              <a:path w="572" h="745">
                <a:moveTo>
                  <a:pt x="12005" y="4663"/>
                </a:moveTo>
                <a:cubicBezTo>
                  <a:pt x="11997" y="4688"/>
                  <a:pt x="11989" y="4713"/>
                  <a:pt x="11981" y="4738"/>
                </a:cubicBezTo>
                <a:cubicBezTo>
                  <a:pt x="11981" y="4762"/>
                  <a:pt x="12047" y="4635"/>
                  <a:pt x="12154" y="4837"/>
                </a:cubicBezTo>
                <a:cubicBezTo>
                  <a:pt x="12228" y="4976"/>
                  <a:pt x="12065" y="5184"/>
                  <a:pt x="11981" y="5283"/>
                </a:cubicBezTo>
                <a:cubicBezTo>
                  <a:pt x="11906" y="5358"/>
                  <a:pt x="11898" y="5366"/>
                  <a:pt x="11857" y="5407"/>
                </a:cubicBezTo>
                <a:cubicBezTo>
                  <a:pt x="11762" y="5255"/>
                  <a:pt x="11810" y="5162"/>
                  <a:pt x="12005" y="5085"/>
                </a:cubicBezTo>
                <a:cubicBezTo>
                  <a:pt x="12172" y="5019"/>
                  <a:pt x="12245" y="5126"/>
                  <a:pt x="12353" y="523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03800" y="2544840"/>
            <a:ext cx="384120" cy="519120"/>
          </a:xfrm>
          <a:custGeom>
            <a:avLst/>
            <a:gdLst/>
            <a:ahLst/>
            <a:rect l="l" t="t" r="r" b="b"/>
            <a:pathLst>
              <a:path w="1067" h="1440">
                <a:moveTo>
                  <a:pt x="12750" y="7069"/>
                </a:moveTo>
                <a:cubicBezTo>
                  <a:pt x="12569" y="7077"/>
                  <a:pt x="12513" y="7088"/>
                  <a:pt x="12353" y="7169"/>
                </a:cubicBezTo>
                <a:cubicBezTo>
                  <a:pt x="12313" y="7389"/>
                  <a:pt x="12517" y="7328"/>
                  <a:pt x="12675" y="7392"/>
                </a:cubicBezTo>
                <a:cubicBezTo>
                  <a:pt x="12941" y="7499"/>
                  <a:pt x="12753" y="7647"/>
                  <a:pt x="12601" y="7689"/>
                </a:cubicBezTo>
                <a:cubicBezTo>
                  <a:pt x="12594" y="7500"/>
                  <a:pt x="12863" y="7241"/>
                  <a:pt x="12700" y="7144"/>
                </a:cubicBezTo>
                <a:cubicBezTo>
                  <a:pt x="12675" y="7152"/>
                  <a:pt x="12651" y="7161"/>
                  <a:pt x="12626" y="7169"/>
                </a:cubicBezTo>
              </a:path>
              <a:path w="1067" h="1440">
                <a:moveTo>
                  <a:pt x="11956" y="7516"/>
                </a:moveTo>
                <a:cubicBezTo>
                  <a:pt x="12038" y="7488"/>
                  <a:pt x="12070" y="7478"/>
                  <a:pt x="12129" y="7466"/>
                </a:cubicBezTo>
              </a:path>
              <a:path w="1067" h="1440">
                <a:moveTo>
                  <a:pt x="12080" y="7739"/>
                </a:moveTo>
                <a:cubicBezTo>
                  <a:pt x="12348" y="7669"/>
                  <a:pt x="12618" y="7639"/>
                  <a:pt x="12898" y="7665"/>
                </a:cubicBezTo>
                <a:cubicBezTo>
                  <a:pt x="12972" y="7683"/>
                  <a:pt x="12979" y="7691"/>
                  <a:pt x="13022" y="7689"/>
                </a:cubicBezTo>
              </a:path>
              <a:path w="1067" h="1440">
                <a:moveTo>
                  <a:pt x="12750" y="7863"/>
                </a:moveTo>
                <a:cubicBezTo>
                  <a:pt x="12791" y="8073"/>
                  <a:pt x="12799" y="8270"/>
                  <a:pt x="12799" y="8483"/>
                </a:cubicBezTo>
                <a:cubicBezTo>
                  <a:pt x="12799" y="8491"/>
                  <a:pt x="12799" y="8500"/>
                  <a:pt x="12799" y="85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82840" y="3803760"/>
            <a:ext cx="106200" cy="117360"/>
          </a:xfrm>
          <a:custGeom>
            <a:avLst/>
            <a:gdLst/>
            <a:ahLst/>
            <a:rect l="l" t="t" r="r" b="b"/>
            <a:pathLst>
              <a:path w="298" h="323">
                <a:moveTo>
                  <a:pt x="4167" y="10666"/>
                </a:moveTo>
                <a:cubicBezTo>
                  <a:pt x="4254" y="10695"/>
                  <a:pt x="4308" y="10763"/>
                  <a:pt x="4390" y="10815"/>
                </a:cubicBezTo>
              </a:path>
              <a:path w="298" h="323">
                <a:moveTo>
                  <a:pt x="4341" y="10616"/>
                </a:moveTo>
                <a:cubicBezTo>
                  <a:pt x="4289" y="10695"/>
                  <a:pt x="4235" y="10758"/>
                  <a:pt x="4167" y="10815"/>
                </a:cubicBezTo>
                <a:cubicBezTo>
                  <a:pt x="4137" y="10845"/>
                  <a:pt x="4126" y="10859"/>
                  <a:pt x="4118" y="10889"/>
                </a:cubicBezTo>
              </a:path>
              <a:path w="298" h="323">
                <a:moveTo>
                  <a:pt x="4192" y="10641"/>
                </a:moveTo>
                <a:cubicBezTo>
                  <a:pt x="4192" y="10616"/>
                  <a:pt x="4192" y="10592"/>
                  <a:pt x="4192" y="10567"/>
                </a:cubicBezTo>
              </a:path>
              <a:path w="298" h="323">
                <a:moveTo>
                  <a:pt x="4118" y="10616"/>
                </a:moveTo>
                <a:cubicBezTo>
                  <a:pt x="4192" y="10666"/>
                  <a:pt x="4266" y="10716"/>
                  <a:pt x="4341" y="10765"/>
                </a:cubicBezTo>
              </a:path>
              <a:path w="298" h="323">
                <a:moveTo>
                  <a:pt x="4415" y="10616"/>
                </a:moveTo>
                <a:cubicBezTo>
                  <a:pt x="4415" y="10600"/>
                  <a:pt x="4415" y="10583"/>
                  <a:pt x="4415" y="10567"/>
                </a:cubicBezTo>
                <a:cubicBezTo>
                  <a:pt x="4314" y="10638"/>
                  <a:pt x="4247" y="10721"/>
                  <a:pt x="4167" y="1081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00120" y="3106800"/>
            <a:ext cx="98640" cy="10008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4316" y="8632"/>
                </a:moveTo>
                <a:cubicBezTo>
                  <a:pt x="4289" y="8723"/>
                  <a:pt x="4291" y="8808"/>
                  <a:pt x="4291" y="8905"/>
                </a:cubicBezTo>
              </a:path>
              <a:path w="274" h="274">
                <a:moveTo>
                  <a:pt x="4167" y="8806"/>
                </a:moveTo>
                <a:cubicBezTo>
                  <a:pt x="4262" y="8768"/>
                  <a:pt x="4338" y="8756"/>
                  <a:pt x="4440" y="875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20920" y="3205080"/>
            <a:ext cx="73080" cy="81000"/>
          </a:xfrm>
          <a:custGeom>
            <a:avLst/>
            <a:gdLst/>
            <a:ahLst/>
            <a:rect l="l" t="t" r="r" b="b"/>
            <a:pathLst>
              <a:path w="200" h="224">
                <a:moveTo>
                  <a:pt x="6598" y="8905"/>
                </a:moveTo>
                <a:cubicBezTo>
                  <a:pt x="6572" y="8982"/>
                  <a:pt x="6573" y="9045"/>
                  <a:pt x="6573" y="9128"/>
                </a:cubicBezTo>
              </a:path>
              <a:path w="200" h="224">
                <a:moveTo>
                  <a:pt x="6499" y="9004"/>
                </a:moveTo>
                <a:cubicBezTo>
                  <a:pt x="6482" y="8996"/>
                  <a:pt x="6466" y="8987"/>
                  <a:pt x="6449" y="8979"/>
                </a:cubicBezTo>
                <a:cubicBezTo>
                  <a:pt x="6515" y="8979"/>
                  <a:pt x="6582" y="8979"/>
                  <a:pt x="6648" y="89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20840" y="4357800"/>
            <a:ext cx="4172040" cy="660240"/>
          </a:xfrm>
          <a:custGeom>
            <a:avLst/>
            <a:gdLst/>
            <a:ahLst/>
            <a:rect l="l" t="t" r="r" b="b"/>
            <a:pathLst>
              <a:path w="11585" h="1836">
                <a:moveTo>
                  <a:pt x="3944" y="12229"/>
                </a:moveTo>
                <a:cubicBezTo>
                  <a:pt x="4057" y="12183"/>
                  <a:pt x="4087" y="12167"/>
                  <a:pt x="4167" y="12179"/>
                </a:cubicBezTo>
                <a:cubicBezTo>
                  <a:pt x="4197" y="12326"/>
                  <a:pt x="4229" y="12447"/>
                  <a:pt x="4068" y="12526"/>
                </a:cubicBezTo>
                <a:cubicBezTo>
                  <a:pt x="4033" y="12526"/>
                  <a:pt x="4034" y="12522"/>
                  <a:pt x="4093" y="12502"/>
                </a:cubicBezTo>
                <a:cubicBezTo>
                  <a:pt x="4179" y="12513"/>
                  <a:pt x="4413" y="12622"/>
                  <a:pt x="4242" y="12750"/>
                </a:cubicBezTo>
                <a:cubicBezTo>
                  <a:pt x="4150" y="12819"/>
                  <a:pt x="3988" y="12747"/>
                  <a:pt x="3894" y="12725"/>
                </a:cubicBezTo>
              </a:path>
              <a:path w="11585" h="1836">
                <a:moveTo>
                  <a:pt x="4440" y="12254"/>
                </a:moveTo>
                <a:cubicBezTo>
                  <a:pt x="4513" y="12169"/>
                  <a:pt x="4643" y="12142"/>
                  <a:pt x="4688" y="12303"/>
                </a:cubicBezTo>
                <a:cubicBezTo>
                  <a:pt x="4729" y="12452"/>
                  <a:pt x="4638" y="12666"/>
                  <a:pt x="4465" y="12675"/>
                </a:cubicBezTo>
                <a:cubicBezTo>
                  <a:pt x="4435" y="12645"/>
                  <a:pt x="4424" y="12631"/>
                  <a:pt x="4415" y="12601"/>
                </a:cubicBezTo>
                <a:cubicBezTo>
                  <a:pt x="4532" y="12516"/>
                  <a:pt x="4636" y="12456"/>
                  <a:pt x="4762" y="12576"/>
                </a:cubicBezTo>
                <a:cubicBezTo>
                  <a:pt x="4779" y="12601"/>
                  <a:pt x="4795" y="12625"/>
                  <a:pt x="4812" y="12650"/>
                </a:cubicBezTo>
              </a:path>
              <a:path w="11585" h="1836">
                <a:moveTo>
                  <a:pt x="3671" y="12948"/>
                </a:moveTo>
                <a:cubicBezTo>
                  <a:pt x="3859" y="12861"/>
                  <a:pt x="4079" y="12921"/>
                  <a:pt x="4291" y="12923"/>
                </a:cubicBezTo>
                <a:cubicBezTo>
                  <a:pt x="4523" y="12926"/>
                  <a:pt x="4754" y="12923"/>
                  <a:pt x="4986" y="12923"/>
                </a:cubicBezTo>
              </a:path>
              <a:path w="11585" h="1836">
                <a:moveTo>
                  <a:pt x="4762" y="13097"/>
                </a:moveTo>
                <a:cubicBezTo>
                  <a:pt x="4630" y="13097"/>
                  <a:pt x="4498" y="13097"/>
                  <a:pt x="4366" y="13097"/>
                </a:cubicBezTo>
                <a:cubicBezTo>
                  <a:pt x="4344" y="13268"/>
                  <a:pt x="4308" y="13305"/>
                  <a:pt x="4465" y="13295"/>
                </a:cubicBezTo>
                <a:cubicBezTo>
                  <a:pt x="4640" y="13284"/>
                  <a:pt x="4759" y="13347"/>
                  <a:pt x="4688" y="13543"/>
                </a:cubicBezTo>
                <a:cubicBezTo>
                  <a:pt x="4604" y="13775"/>
                  <a:pt x="4430" y="13737"/>
                  <a:pt x="4242" y="13692"/>
                </a:cubicBezTo>
              </a:path>
              <a:path w="11585" h="1836">
                <a:moveTo>
                  <a:pt x="5259" y="12700"/>
                </a:moveTo>
                <a:cubicBezTo>
                  <a:pt x="5401" y="12858"/>
                  <a:pt x="5559" y="13021"/>
                  <a:pt x="5680" y="13196"/>
                </a:cubicBezTo>
                <a:cubicBezTo>
                  <a:pt x="5722" y="13279"/>
                  <a:pt x="5730" y="13295"/>
                  <a:pt x="5755" y="13345"/>
                </a:cubicBezTo>
              </a:path>
              <a:path w="11585" h="1836">
                <a:moveTo>
                  <a:pt x="5730" y="12675"/>
                </a:moveTo>
                <a:cubicBezTo>
                  <a:pt x="5574" y="12870"/>
                  <a:pt x="5460" y="13078"/>
                  <a:pt x="5383" y="13320"/>
                </a:cubicBezTo>
                <a:cubicBezTo>
                  <a:pt x="5383" y="13328"/>
                  <a:pt x="5383" y="13337"/>
                  <a:pt x="5383" y="13345"/>
                </a:cubicBezTo>
              </a:path>
              <a:path w="11585" h="1836">
                <a:moveTo>
                  <a:pt x="6424" y="12129"/>
                </a:moveTo>
                <a:cubicBezTo>
                  <a:pt x="6413" y="12337"/>
                  <a:pt x="6402" y="12545"/>
                  <a:pt x="6375" y="12750"/>
                </a:cubicBezTo>
              </a:path>
              <a:path w="11585" h="1836">
                <a:moveTo>
                  <a:pt x="7119" y="12154"/>
                </a:moveTo>
                <a:cubicBezTo>
                  <a:pt x="7036" y="12174"/>
                  <a:pt x="6823" y="12175"/>
                  <a:pt x="6772" y="12229"/>
                </a:cubicBezTo>
                <a:cubicBezTo>
                  <a:pt x="6704" y="12301"/>
                  <a:pt x="6715" y="12409"/>
                  <a:pt x="6697" y="12502"/>
                </a:cubicBezTo>
                <a:cubicBezTo>
                  <a:pt x="6819" y="12478"/>
                  <a:pt x="6950" y="12369"/>
                  <a:pt x="7069" y="12477"/>
                </a:cubicBezTo>
                <a:cubicBezTo>
                  <a:pt x="7077" y="12502"/>
                  <a:pt x="7086" y="12526"/>
                  <a:pt x="7094" y="12551"/>
                </a:cubicBezTo>
                <a:cubicBezTo>
                  <a:pt x="7011" y="12729"/>
                  <a:pt x="6949" y="12736"/>
                  <a:pt x="6747" y="12750"/>
                </a:cubicBezTo>
              </a:path>
              <a:path w="11585" h="1836">
                <a:moveTo>
                  <a:pt x="6350" y="12973"/>
                </a:moveTo>
                <a:cubicBezTo>
                  <a:pt x="6631" y="12973"/>
                  <a:pt x="6912" y="12973"/>
                  <a:pt x="7193" y="12973"/>
                </a:cubicBezTo>
              </a:path>
              <a:path w="11585" h="1836">
                <a:moveTo>
                  <a:pt x="6672" y="13246"/>
                </a:moveTo>
                <a:cubicBezTo>
                  <a:pt x="6672" y="13378"/>
                  <a:pt x="6672" y="13511"/>
                  <a:pt x="6672" y="13643"/>
                </a:cubicBezTo>
                <a:cubicBezTo>
                  <a:pt x="6793" y="13620"/>
                  <a:pt x="6839" y="13592"/>
                  <a:pt x="6945" y="13519"/>
                </a:cubicBezTo>
              </a:path>
              <a:path w="11585" h="1836">
                <a:moveTo>
                  <a:pt x="6896" y="13146"/>
                </a:moveTo>
                <a:cubicBezTo>
                  <a:pt x="6879" y="13411"/>
                  <a:pt x="6896" y="13673"/>
                  <a:pt x="6896" y="13940"/>
                </a:cubicBezTo>
              </a:path>
              <a:path w="11585" h="1836">
                <a:moveTo>
                  <a:pt x="7615" y="12948"/>
                </a:moveTo>
                <a:cubicBezTo>
                  <a:pt x="7716" y="12942"/>
                  <a:pt x="7811" y="12923"/>
                  <a:pt x="7913" y="12923"/>
                </a:cubicBezTo>
              </a:path>
              <a:path w="11585" h="1836">
                <a:moveTo>
                  <a:pt x="7640" y="13196"/>
                </a:moveTo>
                <a:cubicBezTo>
                  <a:pt x="7718" y="13165"/>
                  <a:pt x="7782" y="13135"/>
                  <a:pt x="7863" y="13122"/>
                </a:cubicBezTo>
              </a:path>
              <a:path w="11585" h="1836">
                <a:moveTo>
                  <a:pt x="8483" y="13122"/>
                </a:moveTo>
                <a:cubicBezTo>
                  <a:pt x="8669" y="13122"/>
                  <a:pt x="8845" y="13110"/>
                  <a:pt x="9029" y="13097"/>
                </a:cubicBezTo>
                <a:cubicBezTo>
                  <a:pt x="9191" y="13086"/>
                  <a:pt x="9364" y="13094"/>
                  <a:pt x="9525" y="13072"/>
                </a:cubicBezTo>
                <a:cubicBezTo>
                  <a:pt x="9696" y="13049"/>
                  <a:pt x="9852" y="13008"/>
                  <a:pt x="10021" y="12973"/>
                </a:cubicBezTo>
                <a:cubicBezTo>
                  <a:pt x="10227" y="12931"/>
                  <a:pt x="10435" y="12921"/>
                  <a:pt x="10641" y="12898"/>
                </a:cubicBezTo>
                <a:cubicBezTo>
                  <a:pt x="10761" y="12885"/>
                  <a:pt x="10920" y="12901"/>
                  <a:pt x="11038" y="12874"/>
                </a:cubicBezTo>
                <a:cubicBezTo>
                  <a:pt x="11085" y="12863"/>
                  <a:pt x="11112" y="12854"/>
                  <a:pt x="11162" y="12849"/>
                </a:cubicBezTo>
              </a:path>
              <a:path w="11585" h="1836">
                <a:moveTo>
                  <a:pt x="9699" y="13370"/>
                </a:moveTo>
                <a:cubicBezTo>
                  <a:pt x="9647" y="13370"/>
                  <a:pt x="9632" y="13369"/>
                  <a:pt x="9699" y="13345"/>
                </a:cubicBezTo>
                <a:cubicBezTo>
                  <a:pt x="9892" y="13345"/>
                  <a:pt x="9856" y="13606"/>
                  <a:pt x="9748" y="13742"/>
                </a:cubicBezTo>
                <a:cubicBezTo>
                  <a:pt x="9635" y="13884"/>
                  <a:pt x="9539" y="13814"/>
                  <a:pt x="9451" y="13742"/>
                </a:cubicBezTo>
                <a:cubicBezTo>
                  <a:pt x="9579" y="13693"/>
                  <a:pt x="9654" y="13723"/>
                  <a:pt x="9748" y="13816"/>
                </a:cubicBezTo>
              </a:path>
              <a:path w="11585" h="1836">
                <a:moveTo>
                  <a:pt x="10096" y="13345"/>
                </a:moveTo>
                <a:cubicBezTo>
                  <a:pt x="9941" y="13306"/>
                  <a:pt x="9910" y="13535"/>
                  <a:pt x="9922" y="13667"/>
                </a:cubicBezTo>
                <a:cubicBezTo>
                  <a:pt x="9938" y="13708"/>
                  <a:pt x="9955" y="13750"/>
                  <a:pt x="9971" y="13791"/>
                </a:cubicBezTo>
                <a:cubicBezTo>
                  <a:pt x="10125" y="13784"/>
                  <a:pt x="10480" y="13659"/>
                  <a:pt x="10269" y="13419"/>
                </a:cubicBezTo>
                <a:cubicBezTo>
                  <a:pt x="10163" y="13377"/>
                  <a:pt x="10142" y="13361"/>
                  <a:pt x="10071" y="13370"/>
                </a:cubicBezTo>
              </a:path>
              <a:path w="11585" h="1836">
                <a:moveTo>
                  <a:pt x="13345" y="12675"/>
                </a:moveTo>
                <a:cubicBezTo>
                  <a:pt x="13323" y="12825"/>
                  <a:pt x="13321" y="12859"/>
                  <a:pt x="13295" y="12948"/>
                </a:cubicBezTo>
                <a:cubicBezTo>
                  <a:pt x="13314" y="12776"/>
                  <a:pt x="13515" y="12892"/>
                  <a:pt x="13643" y="12923"/>
                </a:cubicBezTo>
                <a:cubicBezTo>
                  <a:pt x="13676" y="12931"/>
                  <a:pt x="13709" y="12940"/>
                  <a:pt x="13742" y="12948"/>
                </a:cubicBezTo>
              </a:path>
              <a:path w="11585" h="1836">
                <a:moveTo>
                  <a:pt x="13667" y="12601"/>
                </a:moveTo>
                <a:cubicBezTo>
                  <a:pt x="13620" y="12932"/>
                  <a:pt x="13607" y="13032"/>
                  <a:pt x="13568" y="13246"/>
                </a:cubicBezTo>
              </a:path>
              <a:path w="11585" h="1836">
                <a:moveTo>
                  <a:pt x="14039" y="12477"/>
                </a:moveTo>
                <a:cubicBezTo>
                  <a:pt x="13760" y="12757"/>
                  <a:pt x="13891" y="12703"/>
                  <a:pt x="14039" y="12998"/>
                </a:cubicBezTo>
                <a:cubicBezTo>
                  <a:pt x="14084" y="13153"/>
                  <a:pt x="14112" y="13196"/>
                  <a:pt x="14015" y="13271"/>
                </a:cubicBezTo>
                <a:cubicBezTo>
                  <a:pt x="13817" y="13041"/>
                  <a:pt x="13996" y="12863"/>
                  <a:pt x="14089" y="12576"/>
                </a:cubicBezTo>
                <a:cubicBezTo>
                  <a:pt x="14089" y="12559"/>
                  <a:pt x="14089" y="12543"/>
                  <a:pt x="14089" y="12526"/>
                </a:cubicBezTo>
              </a:path>
              <a:path w="11585" h="1836">
                <a:moveTo>
                  <a:pt x="14436" y="12477"/>
                </a:moveTo>
                <a:cubicBezTo>
                  <a:pt x="14295" y="12719"/>
                  <a:pt x="14223" y="12849"/>
                  <a:pt x="14436" y="13047"/>
                </a:cubicBezTo>
                <a:cubicBezTo>
                  <a:pt x="14695" y="12789"/>
                  <a:pt x="14520" y="12652"/>
                  <a:pt x="14213" y="12601"/>
                </a:cubicBezTo>
              </a:path>
              <a:path w="11585" h="1836">
                <a:moveTo>
                  <a:pt x="13146" y="13816"/>
                </a:moveTo>
                <a:cubicBezTo>
                  <a:pt x="13137" y="13539"/>
                  <a:pt x="13099" y="13295"/>
                  <a:pt x="13047" y="13022"/>
                </a:cubicBezTo>
                <a:cubicBezTo>
                  <a:pt x="13012" y="12837"/>
                  <a:pt x="12933" y="12662"/>
                  <a:pt x="12923" y="12502"/>
                </a:cubicBezTo>
                <a:cubicBezTo>
                  <a:pt x="13461" y="12405"/>
                  <a:pt x="13997" y="12281"/>
                  <a:pt x="14536" y="12179"/>
                </a:cubicBezTo>
                <a:cubicBezTo>
                  <a:pt x="14805" y="12128"/>
                  <a:pt x="14993" y="12105"/>
                  <a:pt x="15255" y="12105"/>
                </a:cubicBezTo>
              </a:path>
              <a:path w="11585" h="1836">
                <a:moveTo>
                  <a:pt x="12080" y="12998"/>
                </a:moveTo>
                <a:cubicBezTo>
                  <a:pt x="12088" y="12965"/>
                  <a:pt x="12097" y="12931"/>
                  <a:pt x="12105" y="12898"/>
                </a:cubicBezTo>
                <a:cubicBezTo>
                  <a:pt x="12344" y="12834"/>
                  <a:pt x="12272" y="13204"/>
                  <a:pt x="12204" y="13370"/>
                </a:cubicBezTo>
                <a:cubicBezTo>
                  <a:pt x="12079" y="13674"/>
                  <a:pt x="11976" y="13608"/>
                  <a:pt x="11807" y="13469"/>
                </a:cubicBezTo>
                <a:cubicBezTo>
                  <a:pt x="11925" y="13213"/>
                  <a:pt x="12052" y="13126"/>
                  <a:pt x="12254" y="13419"/>
                </a:cubicBezTo>
                <a:cubicBezTo>
                  <a:pt x="12270" y="13460"/>
                  <a:pt x="12287" y="13502"/>
                  <a:pt x="12303" y="13543"/>
                </a:cubicBezTo>
              </a:path>
              <a:path w="11585" h="1836">
                <a:moveTo>
                  <a:pt x="12427" y="12948"/>
                </a:moveTo>
                <a:cubicBezTo>
                  <a:pt x="12396" y="13235"/>
                  <a:pt x="12354" y="13283"/>
                  <a:pt x="12551" y="13469"/>
                </a:cubicBezTo>
                <a:cubicBezTo>
                  <a:pt x="12710" y="13197"/>
                  <a:pt x="12677" y="13225"/>
                  <a:pt x="12502" y="12948"/>
                </a:cubicBezTo>
              </a:path>
              <a:path w="11585" h="1836">
                <a:moveTo>
                  <a:pt x="11286" y="13047"/>
                </a:moveTo>
                <a:cubicBezTo>
                  <a:pt x="11401" y="12996"/>
                  <a:pt x="11512" y="12957"/>
                  <a:pt x="11633" y="12923"/>
                </a:cubicBezTo>
              </a:path>
              <a:path w="11585" h="1836">
                <a:moveTo>
                  <a:pt x="11361" y="13221"/>
                </a:moveTo>
                <a:cubicBezTo>
                  <a:pt x="11410" y="13204"/>
                  <a:pt x="11460" y="13188"/>
                  <a:pt x="11509" y="1317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76640" y="3803760"/>
            <a:ext cx="80640" cy="117360"/>
          </a:xfrm>
          <a:custGeom>
            <a:avLst/>
            <a:gdLst/>
            <a:ahLst/>
            <a:rect l="l" t="t" r="r" b="b"/>
            <a:pathLst>
              <a:path w="224" h="323">
                <a:moveTo>
                  <a:pt x="6350" y="10641"/>
                </a:moveTo>
                <a:cubicBezTo>
                  <a:pt x="6423" y="10704"/>
                  <a:pt x="6464" y="10744"/>
                  <a:pt x="6524" y="10815"/>
                </a:cubicBezTo>
              </a:path>
              <a:path w="224" h="323">
                <a:moveTo>
                  <a:pt x="6548" y="10567"/>
                </a:moveTo>
                <a:cubicBezTo>
                  <a:pt x="6474" y="10674"/>
                  <a:pt x="6402" y="10786"/>
                  <a:pt x="6325" y="1088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59680" y="2928960"/>
            <a:ext cx="1117440" cy="2098800"/>
          </a:xfrm>
          <a:custGeom>
            <a:avLst/>
            <a:gdLst/>
            <a:ahLst/>
            <a:rect l="l" t="t" r="r" b="b"/>
            <a:pathLst>
              <a:path w="3102" h="5830">
                <a:moveTo>
                  <a:pt x="19025" y="9054"/>
                </a:moveTo>
                <a:cubicBezTo>
                  <a:pt x="19124" y="8988"/>
                  <a:pt x="19156" y="8968"/>
                  <a:pt x="19273" y="8930"/>
                </a:cubicBezTo>
                <a:cubicBezTo>
                  <a:pt x="19319" y="9090"/>
                  <a:pt x="19268" y="9145"/>
                  <a:pt x="19149" y="9277"/>
                </a:cubicBezTo>
                <a:cubicBezTo>
                  <a:pt x="19416" y="9330"/>
                  <a:pt x="19388" y="9536"/>
                  <a:pt x="19124" y="9674"/>
                </a:cubicBezTo>
                <a:cubicBezTo>
                  <a:pt x="18941" y="9719"/>
                  <a:pt x="18890" y="9740"/>
                  <a:pt x="18777" y="9674"/>
                </a:cubicBezTo>
              </a:path>
              <a:path w="3102" h="5830">
                <a:moveTo>
                  <a:pt x="19645" y="8954"/>
                </a:moveTo>
                <a:cubicBezTo>
                  <a:pt x="19673" y="8871"/>
                  <a:pt x="19688" y="8840"/>
                  <a:pt x="19745" y="8806"/>
                </a:cubicBezTo>
                <a:cubicBezTo>
                  <a:pt x="19980" y="8936"/>
                  <a:pt x="20021" y="9231"/>
                  <a:pt x="19769" y="9451"/>
                </a:cubicBezTo>
                <a:cubicBezTo>
                  <a:pt x="19567" y="9541"/>
                  <a:pt x="19515" y="9577"/>
                  <a:pt x="19372" y="9525"/>
                </a:cubicBezTo>
                <a:cubicBezTo>
                  <a:pt x="19454" y="9338"/>
                  <a:pt x="19704" y="9193"/>
                  <a:pt x="19893" y="9426"/>
                </a:cubicBezTo>
                <a:cubicBezTo>
                  <a:pt x="19910" y="9476"/>
                  <a:pt x="19926" y="9525"/>
                  <a:pt x="19943" y="9575"/>
                </a:cubicBezTo>
              </a:path>
              <a:path w="3102" h="5830">
                <a:moveTo>
                  <a:pt x="18182" y="9847"/>
                </a:moveTo>
                <a:cubicBezTo>
                  <a:pt x="18295" y="10022"/>
                  <a:pt x="18381" y="10197"/>
                  <a:pt x="18455" y="10393"/>
                </a:cubicBezTo>
              </a:path>
              <a:path w="3102" h="5830">
                <a:moveTo>
                  <a:pt x="18455" y="9798"/>
                </a:moveTo>
                <a:cubicBezTo>
                  <a:pt x="18361" y="9993"/>
                  <a:pt x="18273" y="10184"/>
                  <a:pt x="18157" y="10368"/>
                </a:cubicBezTo>
              </a:path>
              <a:path w="3102" h="5830">
                <a:moveTo>
                  <a:pt x="19050" y="10096"/>
                </a:moveTo>
                <a:cubicBezTo>
                  <a:pt x="19081" y="10033"/>
                  <a:pt x="19090" y="10002"/>
                  <a:pt x="19075" y="9947"/>
                </a:cubicBezTo>
                <a:cubicBezTo>
                  <a:pt x="19073" y="10002"/>
                  <a:pt x="19063" y="10516"/>
                  <a:pt x="19000" y="10517"/>
                </a:cubicBezTo>
                <a:cubicBezTo>
                  <a:pt x="19000" y="10492"/>
                  <a:pt x="19000" y="10468"/>
                  <a:pt x="19000" y="10443"/>
                </a:cubicBezTo>
              </a:path>
              <a:path w="3102" h="5830">
                <a:moveTo>
                  <a:pt x="19893" y="9823"/>
                </a:moveTo>
                <a:cubicBezTo>
                  <a:pt x="19802" y="9823"/>
                  <a:pt x="19609" y="9775"/>
                  <a:pt x="19571" y="9872"/>
                </a:cubicBezTo>
                <a:cubicBezTo>
                  <a:pt x="19534" y="9967"/>
                  <a:pt x="19542" y="10072"/>
                  <a:pt x="19521" y="10170"/>
                </a:cubicBezTo>
                <a:cubicBezTo>
                  <a:pt x="19676" y="10099"/>
                  <a:pt x="19807" y="9970"/>
                  <a:pt x="19993" y="10046"/>
                </a:cubicBezTo>
                <a:cubicBezTo>
                  <a:pt x="20018" y="10071"/>
                  <a:pt x="20042" y="10095"/>
                  <a:pt x="20067" y="10120"/>
                </a:cubicBezTo>
                <a:cubicBezTo>
                  <a:pt x="19953" y="10403"/>
                  <a:pt x="19843" y="10403"/>
                  <a:pt x="19546" y="10393"/>
                </a:cubicBezTo>
              </a:path>
              <a:path w="3102" h="5830">
                <a:moveTo>
                  <a:pt x="18306" y="10542"/>
                </a:moveTo>
                <a:cubicBezTo>
                  <a:pt x="18543" y="10522"/>
                  <a:pt x="18785" y="10497"/>
                  <a:pt x="19025" y="10517"/>
                </a:cubicBezTo>
                <a:cubicBezTo>
                  <a:pt x="19473" y="10555"/>
                  <a:pt x="19924" y="10634"/>
                  <a:pt x="20365" y="10716"/>
                </a:cubicBezTo>
                <a:cubicBezTo>
                  <a:pt x="20406" y="10724"/>
                  <a:pt x="20448" y="10732"/>
                  <a:pt x="20489" y="10740"/>
                </a:cubicBezTo>
              </a:path>
              <a:path w="3102" h="5830">
                <a:moveTo>
                  <a:pt x="19819" y="10914"/>
                </a:moveTo>
                <a:cubicBezTo>
                  <a:pt x="19682" y="11069"/>
                  <a:pt x="19530" y="11240"/>
                  <a:pt x="19521" y="11460"/>
                </a:cubicBezTo>
                <a:cubicBezTo>
                  <a:pt x="19512" y="11685"/>
                  <a:pt x="19751" y="11691"/>
                  <a:pt x="19893" y="11584"/>
                </a:cubicBezTo>
                <a:cubicBezTo>
                  <a:pt x="20037" y="11475"/>
                  <a:pt x="20101" y="11242"/>
                  <a:pt x="19993" y="11088"/>
                </a:cubicBezTo>
                <a:cubicBezTo>
                  <a:pt x="19942" y="11016"/>
                  <a:pt x="19843" y="11019"/>
                  <a:pt x="19769" y="11013"/>
                </a:cubicBezTo>
              </a:path>
              <a:path w="3102" h="5830">
                <a:moveTo>
                  <a:pt x="19050" y="8136"/>
                </a:moveTo>
                <a:cubicBezTo>
                  <a:pt x="19057" y="8269"/>
                  <a:pt x="19069" y="8400"/>
                  <a:pt x="19075" y="8533"/>
                </a:cubicBezTo>
              </a:path>
              <a:path w="3102" h="5830">
                <a:moveTo>
                  <a:pt x="18306" y="11063"/>
                </a:moveTo>
                <a:cubicBezTo>
                  <a:pt x="18344" y="11292"/>
                  <a:pt x="18355" y="11500"/>
                  <a:pt x="18355" y="11733"/>
                </a:cubicBezTo>
                <a:cubicBezTo>
                  <a:pt x="18355" y="11749"/>
                  <a:pt x="18355" y="11766"/>
                  <a:pt x="18355" y="11782"/>
                </a:cubicBezTo>
              </a:path>
              <a:path w="3102" h="5830">
                <a:moveTo>
                  <a:pt x="18827" y="10988"/>
                </a:moveTo>
                <a:cubicBezTo>
                  <a:pt x="18813" y="11153"/>
                  <a:pt x="18762" y="11317"/>
                  <a:pt x="18777" y="11485"/>
                </a:cubicBezTo>
                <a:cubicBezTo>
                  <a:pt x="18794" y="11671"/>
                  <a:pt x="18913" y="11702"/>
                  <a:pt x="19075" y="11658"/>
                </a:cubicBezTo>
                <a:cubicBezTo>
                  <a:pt x="19186" y="11628"/>
                  <a:pt x="19355" y="11477"/>
                  <a:pt x="19273" y="11336"/>
                </a:cubicBezTo>
                <a:cubicBezTo>
                  <a:pt x="19248" y="11319"/>
                  <a:pt x="19224" y="11303"/>
                  <a:pt x="19199" y="11286"/>
                </a:cubicBezTo>
                <a:cubicBezTo>
                  <a:pt x="19074" y="11411"/>
                  <a:pt x="19038" y="11504"/>
                  <a:pt x="19025" y="11683"/>
                </a:cubicBezTo>
              </a:path>
              <a:path w="3102" h="5830">
                <a:moveTo>
                  <a:pt x="19819" y="11931"/>
                </a:moveTo>
                <a:cubicBezTo>
                  <a:pt x="19704" y="11888"/>
                  <a:pt x="19699" y="11915"/>
                  <a:pt x="19621" y="12005"/>
                </a:cubicBezTo>
                <a:cubicBezTo>
                  <a:pt x="19561" y="12074"/>
                  <a:pt x="19551" y="12139"/>
                  <a:pt x="19546" y="12229"/>
                </a:cubicBezTo>
                <a:cubicBezTo>
                  <a:pt x="19541" y="12316"/>
                  <a:pt x="19582" y="12342"/>
                  <a:pt x="19621" y="12402"/>
                </a:cubicBezTo>
                <a:cubicBezTo>
                  <a:pt x="19655" y="12455"/>
                  <a:pt x="19699" y="12472"/>
                  <a:pt x="19769" y="12477"/>
                </a:cubicBezTo>
                <a:cubicBezTo>
                  <a:pt x="19829" y="12481"/>
                  <a:pt x="19890" y="12475"/>
                  <a:pt x="19943" y="12452"/>
                </a:cubicBezTo>
                <a:cubicBezTo>
                  <a:pt x="20022" y="12417"/>
                  <a:pt x="20150" y="12394"/>
                  <a:pt x="20191" y="12303"/>
                </a:cubicBezTo>
                <a:cubicBezTo>
                  <a:pt x="20208" y="12264"/>
                  <a:pt x="20233" y="12150"/>
                  <a:pt x="20216" y="12105"/>
                </a:cubicBezTo>
                <a:cubicBezTo>
                  <a:pt x="20196" y="12053"/>
                  <a:pt x="20132" y="12002"/>
                  <a:pt x="20092" y="11956"/>
                </a:cubicBezTo>
                <a:cubicBezTo>
                  <a:pt x="20068" y="11928"/>
                  <a:pt x="19983" y="11897"/>
                  <a:pt x="19943" y="11881"/>
                </a:cubicBezTo>
                <a:cubicBezTo>
                  <a:pt x="19886" y="11858"/>
                  <a:pt x="19784" y="11839"/>
                  <a:pt x="19720" y="11857"/>
                </a:cubicBezTo>
                <a:cubicBezTo>
                  <a:pt x="19703" y="11865"/>
                  <a:pt x="19687" y="11873"/>
                  <a:pt x="19670" y="11881"/>
                </a:cubicBezTo>
              </a:path>
              <a:path w="3102" h="5830">
                <a:moveTo>
                  <a:pt x="19025" y="10443"/>
                </a:moveTo>
                <a:lnTo>
                  <a:pt x="19025" y="10443"/>
                </a:lnTo>
              </a:path>
              <a:path w="3102" h="5830">
                <a:moveTo>
                  <a:pt x="19149" y="10269"/>
                </a:moveTo>
                <a:lnTo>
                  <a:pt x="19149" y="10269"/>
                </a:lnTo>
              </a:path>
              <a:path w="3102" h="5830">
                <a:moveTo>
                  <a:pt x="19869" y="9401"/>
                </a:moveTo>
                <a:cubicBezTo>
                  <a:pt x="19861" y="9409"/>
                  <a:pt x="19852" y="9418"/>
                  <a:pt x="19844" y="9426"/>
                </a:cubicBezTo>
              </a:path>
              <a:path w="3102" h="5830">
                <a:moveTo>
                  <a:pt x="19050" y="10269"/>
                </a:moveTo>
                <a:lnTo>
                  <a:pt x="19050" y="10269"/>
                </a:lnTo>
              </a:path>
              <a:path w="3102" h="5830">
                <a:moveTo>
                  <a:pt x="19050" y="10195"/>
                </a:moveTo>
                <a:lnTo>
                  <a:pt x="19050" y="10195"/>
                </a:lnTo>
              </a:path>
              <a:path w="3102" h="5830">
                <a:moveTo>
                  <a:pt x="19869" y="9401"/>
                </a:moveTo>
                <a:lnTo>
                  <a:pt x="19869" y="9401"/>
                </a:lnTo>
              </a:path>
              <a:path w="3102" h="5830">
                <a:moveTo>
                  <a:pt x="19224" y="10046"/>
                </a:moveTo>
                <a:cubicBezTo>
                  <a:pt x="19281" y="9939"/>
                  <a:pt x="19378" y="9882"/>
                  <a:pt x="19447" y="9773"/>
                </a:cubicBezTo>
                <a:cubicBezTo>
                  <a:pt x="19455" y="9756"/>
                  <a:pt x="19464" y="9740"/>
                  <a:pt x="19472" y="9723"/>
                </a:cubicBezTo>
                <a:cubicBezTo>
                  <a:pt x="19316" y="9919"/>
                  <a:pt x="19269" y="9880"/>
                  <a:pt x="19447" y="9723"/>
                </a:cubicBezTo>
                <a:cubicBezTo>
                  <a:pt x="19612" y="9577"/>
                  <a:pt x="19350" y="9832"/>
                  <a:pt x="19298" y="9872"/>
                </a:cubicBezTo>
                <a:cubicBezTo>
                  <a:pt x="19377" y="9793"/>
                  <a:pt x="19407" y="9764"/>
                  <a:pt x="19472" y="9723"/>
                </a:cubicBezTo>
              </a:path>
              <a:path w="3102" h="5830">
                <a:moveTo>
                  <a:pt x="18827" y="11956"/>
                </a:moveTo>
                <a:cubicBezTo>
                  <a:pt x="18772" y="12010"/>
                  <a:pt x="18759" y="12021"/>
                  <a:pt x="18827" y="11931"/>
                </a:cubicBezTo>
                <a:cubicBezTo>
                  <a:pt x="19025" y="11881"/>
                  <a:pt x="19171" y="11987"/>
                  <a:pt x="19050" y="12229"/>
                </a:cubicBezTo>
                <a:cubicBezTo>
                  <a:pt x="18927" y="12475"/>
                  <a:pt x="18837" y="12527"/>
                  <a:pt x="18604" y="12576"/>
                </a:cubicBezTo>
                <a:cubicBezTo>
                  <a:pt x="18604" y="12385"/>
                  <a:pt x="18639" y="12206"/>
                  <a:pt x="18876" y="12303"/>
                </a:cubicBezTo>
                <a:cubicBezTo>
                  <a:pt x="18982" y="12346"/>
                  <a:pt x="19047" y="12424"/>
                  <a:pt x="19124" y="12502"/>
                </a:cubicBezTo>
              </a:path>
              <a:path w="3102" h="5830">
                <a:moveTo>
                  <a:pt x="18157" y="11906"/>
                </a:moveTo>
                <a:cubicBezTo>
                  <a:pt x="18054" y="11983"/>
                  <a:pt x="18186" y="11898"/>
                  <a:pt x="18231" y="11906"/>
                </a:cubicBezTo>
                <a:cubicBezTo>
                  <a:pt x="18393" y="11936"/>
                  <a:pt x="18350" y="12142"/>
                  <a:pt x="18256" y="12229"/>
                </a:cubicBezTo>
                <a:cubicBezTo>
                  <a:pt x="18183" y="12265"/>
                  <a:pt x="18178" y="12282"/>
                  <a:pt x="18132" y="12278"/>
                </a:cubicBezTo>
                <a:cubicBezTo>
                  <a:pt x="18255" y="12139"/>
                  <a:pt x="18317" y="12181"/>
                  <a:pt x="18455" y="12278"/>
                </a:cubicBezTo>
                <a:cubicBezTo>
                  <a:pt x="18412" y="12520"/>
                  <a:pt x="18294" y="12592"/>
                  <a:pt x="18033" y="12526"/>
                </a:cubicBezTo>
                <a:cubicBezTo>
                  <a:pt x="18008" y="12510"/>
                  <a:pt x="17984" y="12493"/>
                  <a:pt x="17959" y="12477"/>
                </a:cubicBezTo>
              </a:path>
              <a:path w="3102" h="5830">
                <a:moveTo>
                  <a:pt x="17512" y="12948"/>
                </a:moveTo>
                <a:cubicBezTo>
                  <a:pt x="17928" y="12931"/>
                  <a:pt x="18337" y="12856"/>
                  <a:pt x="18752" y="12824"/>
                </a:cubicBezTo>
                <a:cubicBezTo>
                  <a:pt x="19207" y="12789"/>
                  <a:pt x="19663" y="12763"/>
                  <a:pt x="20117" y="12725"/>
                </a:cubicBezTo>
                <a:cubicBezTo>
                  <a:pt x="20150" y="12725"/>
                  <a:pt x="20166" y="12725"/>
                  <a:pt x="20191" y="12725"/>
                </a:cubicBezTo>
              </a:path>
              <a:path w="3102" h="5830">
                <a:moveTo>
                  <a:pt x="17562" y="12105"/>
                </a:moveTo>
                <a:cubicBezTo>
                  <a:pt x="17570" y="12292"/>
                  <a:pt x="17599" y="12467"/>
                  <a:pt x="17562" y="12650"/>
                </a:cubicBezTo>
              </a:path>
              <a:path w="3102" h="5830">
                <a:moveTo>
                  <a:pt x="17388" y="12427"/>
                </a:moveTo>
                <a:cubicBezTo>
                  <a:pt x="17573" y="12380"/>
                  <a:pt x="17751" y="12326"/>
                  <a:pt x="17934" y="12278"/>
                </a:cubicBezTo>
              </a:path>
              <a:path w="3102" h="5830">
                <a:moveTo>
                  <a:pt x="19670" y="12898"/>
                </a:moveTo>
                <a:cubicBezTo>
                  <a:pt x="19579" y="13116"/>
                  <a:pt x="19450" y="13489"/>
                  <a:pt x="19596" y="13717"/>
                </a:cubicBezTo>
                <a:cubicBezTo>
                  <a:pt x="19629" y="13725"/>
                  <a:pt x="19662" y="13734"/>
                  <a:pt x="19695" y="13742"/>
                </a:cubicBezTo>
                <a:cubicBezTo>
                  <a:pt x="19918" y="13356"/>
                  <a:pt x="19958" y="13170"/>
                  <a:pt x="19546" y="12998"/>
                </a:cubicBezTo>
              </a:path>
              <a:path w="3102" h="5830">
                <a:moveTo>
                  <a:pt x="19248" y="13072"/>
                </a:moveTo>
                <a:cubicBezTo>
                  <a:pt x="19123" y="13130"/>
                  <a:pt x="18945" y="13300"/>
                  <a:pt x="19075" y="13469"/>
                </a:cubicBezTo>
                <a:cubicBezTo>
                  <a:pt x="19170" y="13593"/>
                  <a:pt x="19218" y="13565"/>
                  <a:pt x="19248" y="13717"/>
                </a:cubicBezTo>
                <a:cubicBezTo>
                  <a:pt x="18941" y="13717"/>
                  <a:pt x="19135" y="13497"/>
                  <a:pt x="19199" y="13271"/>
                </a:cubicBezTo>
                <a:cubicBezTo>
                  <a:pt x="19221" y="13163"/>
                  <a:pt x="19246" y="13121"/>
                  <a:pt x="19149" y="13146"/>
                </a:cubicBezTo>
              </a:path>
              <a:path w="3102" h="5830">
                <a:moveTo>
                  <a:pt x="18331" y="13494"/>
                </a:moveTo>
                <a:cubicBezTo>
                  <a:pt x="18340" y="13570"/>
                  <a:pt x="18362" y="13638"/>
                  <a:pt x="18380" y="13717"/>
                </a:cubicBezTo>
                <a:cubicBezTo>
                  <a:pt x="18521" y="13689"/>
                  <a:pt x="18577" y="13671"/>
                  <a:pt x="18653" y="13593"/>
                </a:cubicBezTo>
              </a:path>
              <a:path w="3102" h="5830">
                <a:moveTo>
                  <a:pt x="18529" y="13171"/>
                </a:moveTo>
                <a:cubicBezTo>
                  <a:pt x="18549" y="13446"/>
                  <a:pt x="18567" y="13699"/>
                  <a:pt x="18628" y="1396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54360" y="4010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650" y="11137"/>
                </a:moveTo>
                <a:lnTo>
                  <a:pt x="12650" y="11137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32080" y="4321080"/>
            <a:ext cx="536760" cy="358920"/>
          </a:xfrm>
          <a:custGeom>
            <a:avLst/>
            <a:gdLst/>
            <a:ahLst/>
            <a:rect l="l" t="t" r="r" b="b"/>
            <a:pathLst>
              <a:path w="1490" h="994">
                <a:moveTo>
                  <a:pt x="9153" y="12626"/>
                </a:moveTo>
                <a:cubicBezTo>
                  <a:pt x="9088" y="12713"/>
                  <a:pt x="9077" y="12751"/>
                  <a:pt x="9004" y="12700"/>
                </a:cubicBezTo>
                <a:cubicBezTo>
                  <a:pt x="9151" y="12689"/>
                  <a:pt x="9371" y="12792"/>
                  <a:pt x="9525" y="12700"/>
                </a:cubicBezTo>
                <a:cubicBezTo>
                  <a:pt x="9542" y="12675"/>
                  <a:pt x="9558" y="12651"/>
                  <a:pt x="9575" y="12626"/>
                </a:cubicBezTo>
              </a:path>
              <a:path w="1490" h="994">
                <a:moveTo>
                  <a:pt x="9550" y="12005"/>
                </a:moveTo>
                <a:cubicBezTo>
                  <a:pt x="9499" y="12335"/>
                  <a:pt x="9449" y="12666"/>
                  <a:pt x="9426" y="12998"/>
                </a:cubicBezTo>
              </a:path>
              <a:path w="1490" h="994">
                <a:moveTo>
                  <a:pt x="9947" y="12030"/>
                </a:moveTo>
                <a:cubicBezTo>
                  <a:pt x="9717" y="12375"/>
                  <a:pt x="9775" y="12267"/>
                  <a:pt x="9947" y="12551"/>
                </a:cubicBezTo>
                <a:cubicBezTo>
                  <a:pt x="10024" y="12678"/>
                  <a:pt x="10016" y="12733"/>
                  <a:pt x="9922" y="12774"/>
                </a:cubicBezTo>
                <a:cubicBezTo>
                  <a:pt x="9909" y="12553"/>
                  <a:pt x="9918" y="12350"/>
                  <a:pt x="9947" y="12129"/>
                </a:cubicBezTo>
              </a:path>
              <a:path w="1490" h="994">
                <a:moveTo>
                  <a:pt x="10344" y="12030"/>
                </a:moveTo>
                <a:cubicBezTo>
                  <a:pt x="10276" y="12253"/>
                  <a:pt x="10253" y="12414"/>
                  <a:pt x="10269" y="12650"/>
                </a:cubicBezTo>
                <a:cubicBezTo>
                  <a:pt x="10567" y="12501"/>
                  <a:pt x="10474" y="12300"/>
                  <a:pt x="10344" y="12030"/>
                </a:cubicBezTo>
              </a:path>
              <a:path w="1490" h="994">
                <a:moveTo>
                  <a:pt x="9153" y="12278"/>
                </a:moveTo>
                <a:cubicBezTo>
                  <a:pt x="9106" y="12441"/>
                  <a:pt x="9037" y="12589"/>
                  <a:pt x="8979" y="127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19760" y="4010040"/>
            <a:ext cx="314280" cy="374760"/>
          </a:xfrm>
          <a:custGeom>
            <a:avLst/>
            <a:gdLst/>
            <a:ahLst/>
            <a:rect l="l" t="t" r="r" b="b"/>
            <a:pathLst>
              <a:path w="870" h="1043">
                <a:moveTo>
                  <a:pt x="13767" y="11609"/>
                </a:moveTo>
                <a:cubicBezTo>
                  <a:pt x="13791" y="11706"/>
                  <a:pt x="13803" y="11515"/>
                  <a:pt x="13940" y="11435"/>
                </a:cubicBezTo>
                <a:cubicBezTo>
                  <a:pt x="14038" y="11681"/>
                  <a:pt x="14034" y="11983"/>
                  <a:pt x="13767" y="12179"/>
                </a:cubicBezTo>
                <a:cubicBezTo>
                  <a:pt x="13742" y="12179"/>
                  <a:pt x="13717" y="12179"/>
                  <a:pt x="13692" y="12179"/>
                </a:cubicBezTo>
                <a:cubicBezTo>
                  <a:pt x="13679" y="11959"/>
                  <a:pt x="13742" y="11858"/>
                  <a:pt x="13965" y="11981"/>
                </a:cubicBezTo>
                <a:cubicBezTo>
                  <a:pt x="14050" y="12044"/>
                  <a:pt x="14070" y="12057"/>
                  <a:pt x="14114" y="12105"/>
                </a:cubicBezTo>
              </a:path>
              <a:path w="870" h="1043">
                <a:moveTo>
                  <a:pt x="14213" y="11460"/>
                </a:moveTo>
                <a:cubicBezTo>
                  <a:pt x="14192" y="11562"/>
                  <a:pt x="14174" y="11660"/>
                  <a:pt x="14139" y="11757"/>
                </a:cubicBezTo>
                <a:cubicBezTo>
                  <a:pt x="14264" y="11695"/>
                  <a:pt x="14346" y="11654"/>
                  <a:pt x="14486" y="11708"/>
                </a:cubicBezTo>
                <a:cubicBezTo>
                  <a:pt x="14494" y="11716"/>
                  <a:pt x="14503" y="11725"/>
                  <a:pt x="14511" y="11733"/>
                </a:cubicBezTo>
              </a:path>
              <a:path w="870" h="1043">
                <a:moveTo>
                  <a:pt x="14461" y="11137"/>
                </a:moveTo>
                <a:cubicBezTo>
                  <a:pt x="14503" y="11389"/>
                  <a:pt x="14532" y="11624"/>
                  <a:pt x="14536" y="11881"/>
                </a:cubicBezTo>
                <a:cubicBezTo>
                  <a:pt x="14536" y="11972"/>
                  <a:pt x="14536" y="11980"/>
                  <a:pt x="14536" y="1203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4813200"/>
            <a:ext cx="633600" cy="1187640"/>
          </a:xfrm>
          <a:custGeom>
            <a:avLst/>
            <a:gdLst/>
            <a:ahLst/>
            <a:rect l="l" t="t" r="r" b="b"/>
            <a:pathLst>
              <a:path w="1762" h="3300">
                <a:moveTo>
                  <a:pt x="13469" y="13543"/>
                </a:moveTo>
                <a:cubicBezTo>
                  <a:pt x="13590" y="13424"/>
                  <a:pt x="13469" y="13721"/>
                  <a:pt x="13444" y="13767"/>
                </a:cubicBezTo>
                <a:cubicBezTo>
                  <a:pt x="13590" y="13718"/>
                  <a:pt x="13625" y="13710"/>
                  <a:pt x="13767" y="13767"/>
                </a:cubicBezTo>
              </a:path>
              <a:path w="1762" h="3300">
                <a:moveTo>
                  <a:pt x="13742" y="13370"/>
                </a:moveTo>
                <a:cubicBezTo>
                  <a:pt x="13723" y="13603"/>
                  <a:pt x="13717" y="13830"/>
                  <a:pt x="13717" y="14064"/>
                </a:cubicBezTo>
              </a:path>
              <a:path w="1762" h="3300">
                <a:moveTo>
                  <a:pt x="13965" y="13494"/>
                </a:moveTo>
                <a:cubicBezTo>
                  <a:pt x="13924" y="13707"/>
                  <a:pt x="13928" y="13766"/>
                  <a:pt x="14015" y="13965"/>
                </a:cubicBezTo>
                <a:cubicBezTo>
                  <a:pt x="14297" y="13846"/>
                  <a:pt x="14271" y="13763"/>
                  <a:pt x="14064" y="13568"/>
                </a:cubicBezTo>
              </a:path>
              <a:path w="1762" h="3300">
                <a:moveTo>
                  <a:pt x="13122" y="13940"/>
                </a:moveTo>
                <a:cubicBezTo>
                  <a:pt x="13180" y="13924"/>
                  <a:pt x="13237" y="13907"/>
                  <a:pt x="13295" y="13891"/>
                </a:cubicBezTo>
              </a:path>
              <a:path w="1762" h="3300">
                <a:moveTo>
                  <a:pt x="13171" y="14387"/>
                </a:moveTo>
                <a:cubicBezTo>
                  <a:pt x="13559" y="14316"/>
                  <a:pt x="13946" y="14215"/>
                  <a:pt x="14337" y="14163"/>
                </a:cubicBezTo>
                <a:cubicBezTo>
                  <a:pt x="14370" y="14163"/>
                  <a:pt x="14403" y="14163"/>
                  <a:pt x="14436" y="14163"/>
                </a:cubicBezTo>
              </a:path>
              <a:path w="1762" h="3300">
                <a:moveTo>
                  <a:pt x="14288" y="14436"/>
                </a:moveTo>
                <a:cubicBezTo>
                  <a:pt x="14150" y="14456"/>
                  <a:pt x="13702" y="14527"/>
                  <a:pt x="13990" y="14734"/>
                </a:cubicBezTo>
                <a:cubicBezTo>
                  <a:pt x="14178" y="14828"/>
                  <a:pt x="14240" y="14851"/>
                  <a:pt x="14263" y="15007"/>
                </a:cubicBezTo>
                <a:cubicBezTo>
                  <a:pt x="14221" y="15090"/>
                  <a:pt x="14221" y="15131"/>
                  <a:pt x="14163" y="15081"/>
                </a:cubicBezTo>
                <a:cubicBezTo>
                  <a:pt x="14179" y="14872"/>
                  <a:pt x="14228" y="14708"/>
                  <a:pt x="14288" y="14511"/>
                </a:cubicBezTo>
              </a:path>
              <a:path w="1762" h="3300">
                <a:moveTo>
                  <a:pt x="14536" y="13395"/>
                </a:moveTo>
                <a:cubicBezTo>
                  <a:pt x="14546" y="13553"/>
                  <a:pt x="14555" y="13707"/>
                  <a:pt x="14560" y="13866"/>
                </a:cubicBezTo>
              </a:path>
              <a:path w="1762" h="3300">
                <a:moveTo>
                  <a:pt x="14387" y="13667"/>
                </a:moveTo>
                <a:cubicBezTo>
                  <a:pt x="14441" y="13799"/>
                  <a:pt x="14467" y="13860"/>
                  <a:pt x="14560" y="13965"/>
                </a:cubicBezTo>
                <a:cubicBezTo>
                  <a:pt x="14606" y="13845"/>
                  <a:pt x="14649" y="13730"/>
                  <a:pt x="14709" y="13618"/>
                </a:cubicBezTo>
              </a:path>
              <a:path w="1762" h="3300">
                <a:moveTo>
                  <a:pt x="14784" y="14263"/>
                </a:moveTo>
                <a:cubicBezTo>
                  <a:pt x="14584" y="14416"/>
                  <a:pt x="14563" y="14607"/>
                  <a:pt x="14536" y="14858"/>
                </a:cubicBezTo>
                <a:cubicBezTo>
                  <a:pt x="14704" y="14866"/>
                  <a:pt x="15075" y="14683"/>
                  <a:pt x="14808" y="14436"/>
                </a:cubicBezTo>
                <a:cubicBezTo>
                  <a:pt x="14750" y="14420"/>
                  <a:pt x="14693" y="14403"/>
                  <a:pt x="14635" y="14387"/>
                </a:cubicBezTo>
              </a:path>
              <a:path w="1762" h="3300">
                <a:moveTo>
                  <a:pt x="14412" y="15304"/>
                </a:moveTo>
                <a:cubicBezTo>
                  <a:pt x="14301" y="15174"/>
                  <a:pt x="14148" y="15315"/>
                  <a:pt x="14039" y="15404"/>
                </a:cubicBezTo>
                <a:cubicBezTo>
                  <a:pt x="14006" y="15437"/>
                  <a:pt x="13973" y="15470"/>
                  <a:pt x="13940" y="15503"/>
                </a:cubicBezTo>
                <a:cubicBezTo>
                  <a:pt x="14144" y="15595"/>
                  <a:pt x="14313" y="15614"/>
                  <a:pt x="14387" y="15801"/>
                </a:cubicBezTo>
                <a:cubicBezTo>
                  <a:pt x="14137" y="15999"/>
                  <a:pt x="14358" y="15487"/>
                  <a:pt x="14387" y="15404"/>
                </a:cubicBezTo>
                <a:cubicBezTo>
                  <a:pt x="14403" y="15371"/>
                  <a:pt x="14420" y="15337"/>
                  <a:pt x="14436" y="15304"/>
                </a:cubicBezTo>
              </a:path>
              <a:path w="1762" h="3300">
                <a:moveTo>
                  <a:pt x="14660" y="15180"/>
                </a:moveTo>
                <a:cubicBezTo>
                  <a:pt x="14591" y="15372"/>
                  <a:pt x="14559" y="15500"/>
                  <a:pt x="14635" y="15677"/>
                </a:cubicBezTo>
                <a:cubicBezTo>
                  <a:pt x="14864" y="15485"/>
                  <a:pt x="14860" y="15411"/>
                  <a:pt x="14709" y="15156"/>
                </a:cubicBezTo>
              </a:path>
              <a:path w="1762" h="3300">
                <a:moveTo>
                  <a:pt x="13519" y="15528"/>
                </a:moveTo>
                <a:cubicBezTo>
                  <a:pt x="13658" y="15504"/>
                  <a:pt x="13699" y="15496"/>
                  <a:pt x="13791" y="15503"/>
                </a:cubicBezTo>
              </a:path>
              <a:path w="1762" h="3300">
                <a:moveTo>
                  <a:pt x="13494" y="16049"/>
                </a:moveTo>
                <a:cubicBezTo>
                  <a:pt x="13952" y="15963"/>
                  <a:pt x="14392" y="15889"/>
                  <a:pt x="14858" y="15875"/>
                </a:cubicBezTo>
              </a:path>
              <a:path w="1762" h="3300">
                <a:moveTo>
                  <a:pt x="14635" y="16073"/>
                </a:moveTo>
                <a:cubicBezTo>
                  <a:pt x="14489" y="16194"/>
                  <a:pt x="14391" y="16364"/>
                  <a:pt x="14412" y="16570"/>
                </a:cubicBezTo>
                <a:cubicBezTo>
                  <a:pt x="14428" y="16603"/>
                  <a:pt x="14445" y="16636"/>
                  <a:pt x="14461" y="16669"/>
                </a:cubicBezTo>
                <a:cubicBezTo>
                  <a:pt x="14673" y="16616"/>
                  <a:pt x="14878" y="16448"/>
                  <a:pt x="14759" y="16173"/>
                </a:cubicBezTo>
                <a:cubicBezTo>
                  <a:pt x="14726" y="16148"/>
                  <a:pt x="14693" y="16123"/>
                  <a:pt x="14660" y="1609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57880" y="3705120"/>
            <a:ext cx="1135080" cy="635040"/>
          </a:xfrm>
          <a:custGeom>
            <a:avLst/>
            <a:gdLst/>
            <a:ahLst/>
            <a:rect l="l" t="t" r="r" b="b"/>
            <a:pathLst>
              <a:path w="3151" h="1762">
                <a:moveTo>
                  <a:pt x="15106" y="10294"/>
                </a:moveTo>
                <a:cubicBezTo>
                  <a:pt x="14940" y="10363"/>
                  <a:pt x="14883" y="10443"/>
                  <a:pt x="14883" y="10641"/>
                </a:cubicBezTo>
                <a:cubicBezTo>
                  <a:pt x="14891" y="10674"/>
                  <a:pt x="14900" y="10707"/>
                  <a:pt x="14908" y="10740"/>
                </a:cubicBezTo>
                <a:cubicBezTo>
                  <a:pt x="15051" y="10704"/>
                  <a:pt x="15255" y="10566"/>
                  <a:pt x="15131" y="10368"/>
                </a:cubicBezTo>
                <a:cubicBezTo>
                  <a:pt x="15106" y="10360"/>
                  <a:pt x="15081" y="10352"/>
                  <a:pt x="15056" y="10344"/>
                </a:cubicBezTo>
              </a:path>
              <a:path w="3151" h="1762">
                <a:moveTo>
                  <a:pt x="14957" y="10964"/>
                </a:moveTo>
                <a:cubicBezTo>
                  <a:pt x="15089" y="10895"/>
                  <a:pt x="15214" y="10843"/>
                  <a:pt x="15354" y="10790"/>
                </a:cubicBezTo>
              </a:path>
              <a:path w="3151" h="1762">
                <a:moveTo>
                  <a:pt x="14883" y="11410"/>
                </a:moveTo>
                <a:cubicBezTo>
                  <a:pt x="14971" y="11311"/>
                  <a:pt x="14978" y="11328"/>
                  <a:pt x="15106" y="11336"/>
                </a:cubicBezTo>
                <a:cubicBezTo>
                  <a:pt x="15117" y="11456"/>
                  <a:pt x="15145" y="11757"/>
                  <a:pt x="14932" y="11757"/>
                </a:cubicBezTo>
                <a:cubicBezTo>
                  <a:pt x="14924" y="11741"/>
                  <a:pt x="14916" y="11724"/>
                  <a:pt x="14908" y="11708"/>
                </a:cubicBezTo>
                <a:cubicBezTo>
                  <a:pt x="14963" y="11615"/>
                  <a:pt x="15051" y="11528"/>
                  <a:pt x="15180" y="11584"/>
                </a:cubicBezTo>
                <a:cubicBezTo>
                  <a:pt x="15227" y="11630"/>
                  <a:pt x="15241" y="11642"/>
                  <a:pt x="15255" y="11683"/>
                </a:cubicBezTo>
              </a:path>
              <a:path w="3151" h="1762">
                <a:moveTo>
                  <a:pt x="15379" y="11137"/>
                </a:moveTo>
                <a:cubicBezTo>
                  <a:pt x="15293" y="11299"/>
                  <a:pt x="15249" y="11397"/>
                  <a:pt x="15329" y="11559"/>
                </a:cubicBezTo>
                <a:cubicBezTo>
                  <a:pt x="15446" y="11510"/>
                  <a:pt x="15587" y="11326"/>
                  <a:pt x="15429" y="11187"/>
                </a:cubicBezTo>
                <a:cubicBezTo>
                  <a:pt x="15396" y="11179"/>
                  <a:pt x="15362" y="11170"/>
                  <a:pt x="15329" y="11162"/>
                </a:cubicBezTo>
              </a:path>
              <a:path w="3151" h="1762">
                <a:moveTo>
                  <a:pt x="15875" y="11212"/>
                </a:moveTo>
                <a:cubicBezTo>
                  <a:pt x="15991" y="11144"/>
                  <a:pt x="16111" y="11105"/>
                  <a:pt x="16247" y="11088"/>
                </a:cubicBezTo>
                <a:cubicBezTo>
                  <a:pt x="16272" y="11088"/>
                  <a:pt x="16296" y="11088"/>
                  <a:pt x="16321" y="11088"/>
                </a:cubicBezTo>
              </a:path>
              <a:path w="3151" h="1762">
                <a:moveTo>
                  <a:pt x="16024" y="11410"/>
                </a:moveTo>
                <a:cubicBezTo>
                  <a:pt x="16132" y="11410"/>
                  <a:pt x="16221" y="11336"/>
                  <a:pt x="16321" y="11336"/>
                </a:cubicBezTo>
                <a:cubicBezTo>
                  <a:pt x="16329" y="11344"/>
                  <a:pt x="16338" y="11353"/>
                  <a:pt x="16346" y="11361"/>
                </a:cubicBezTo>
              </a:path>
              <a:path w="3151" h="1762">
                <a:moveTo>
                  <a:pt x="16818" y="10889"/>
                </a:moveTo>
                <a:cubicBezTo>
                  <a:pt x="16818" y="10899"/>
                  <a:pt x="16818" y="10881"/>
                  <a:pt x="16892" y="10840"/>
                </a:cubicBezTo>
                <a:cubicBezTo>
                  <a:pt x="17069" y="10999"/>
                  <a:pt x="16975" y="11255"/>
                  <a:pt x="16842" y="11460"/>
                </a:cubicBezTo>
                <a:cubicBezTo>
                  <a:pt x="16738" y="11564"/>
                  <a:pt x="16713" y="11581"/>
                  <a:pt x="16669" y="11658"/>
                </a:cubicBezTo>
                <a:cubicBezTo>
                  <a:pt x="16609" y="11479"/>
                  <a:pt x="16670" y="11390"/>
                  <a:pt x="16892" y="11385"/>
                </a:cubicBezTo>
                <a:cubicBezTo>
                  <a:pt x="17041" y="11381"/>
                  <a:pt x="17055" y="11495"/>
                  <a:pt x="17066" y="11609"/>
                </a:cubicBezTo>
              </a:path>
              <a:path w="3151" h="1762">
                <a:moveTo>
                  <a:pt x="17090" y="10889"/>
                </a:moveTo>
                <a:cubicBezTo>
                  <a:pt x="17118" y="10963"/>
                  <a:pt x="17111" y="11010"/>
                  <a:pt x="17090" y="11088"/>
                </a:cubicBezTo>
                <a:cubicBezTo>
                  <a:pt x="17223" y="11088"/>
                  <a:pt x="17258" y="11092"/>
                  <a:pt x="17338" y="11063"/>
                </a:cubicBezTo>
              </a:path>
              <a:path w="3151" h="1762">
                <a:moveTo>
                  <a:pt x="17314" y="10716"/>
                </a:moveTo>
                <a:cubicBezTo>
                  <a:pt x="17348" y="10973"/>
                  <a:pt x="17382" y="11226"/>
                  <a:pt x="17388" y="11485"/>
                </a:cubicBezTo>
                <a:cubicBezTo>
                  <a:pt x="17388" y="11510"/>
                  <a:pt x="17388" y="11534"/>
                  <a:pt x="17388" y="11559"/>
                </a:cubicBezTo>
              </a:path>
              <a:path w="3151" h="1762">
                <a:moveTo>
                  <a:pt x="16570" y="11981"/>
                </a:moveTo>
                <a:cubicBezTo>
                  <a:pt x="16764" y="12077"/>
                  <a:pt x="16924" y="12056"/>
                  <a:pt x="17140" y="12030"/>
                </a:cubicBezTo>
                <a:cubicBezTo>
                  <a:pt x="17371" y="12002"/>
                  <a:pt x="17631" y="11943"/>
                  <a:pt x="17810" y="11782"/>
                </a:cubicBezTo>
                <a:cubicBezTo>
                  <a:pt x="17966" y="11642"/>
                  <a:pt x="18037" y="11370"/>
                  <a:pt x="18033" y="11162"/>
                </a:cubicBezTo>
                <a:cubicBezTo>
                  <a:pt x="18029" y="10965"/>
                  <a:pt x="17991" y="10850"/>
                  <a:pt x="17884" y="10691"/>
                </a:cubicBezTo>
                <a:cubicBezTo>
                  <a:pt x="17804" y="10572"/>
                  <a:pt x="17686" y="10511"/>
                  <a:pt x="17562" y="10443"/>
                </a:cubicBezTo>
                <a:cubicBezTo>
                  <a:pt x="17448" y="10381"/>
                  <a:pt x="17297" y="10336"/>
                  <a:pt x="17165" y="10368"/>
                </a:cubicBezTo>
                <a:cubicBezTo>
                  <a:pt x="17032" y="10401"/>
                  <a:pt x="16806" y="10487"/>
                  <a:pt x="16694" y="10567"/>
                </a:cubicBezTo>
                <a:cubicBezTo>
                  <a:pt x="16555" y="10667"/>
                  <a:pt x="16447" y="10826"/>
                  <a:pt x="16396" y="10988"/>
                </a:cubicBezTo>
                <a:cubicBezTo>
                  <a:pt x="16343" y="11159"/>
                  <a:pt x="16407" y="11269"/>
                  <a:pt x="16421" y="11435"/>
                </a:cubicBezTo>
                <a:cubicBezTo>
                  <a:pt x="16437" y="11628"/>
                  <a:pt x="16389" y="11753"/>
                  <a:pt x="16520" y="11906"/>
                </a:cubicBezTo>
                <a:cubicBezTo>
                  <a:pt x="16591" y="11990"/>
                  <a:pt x="16728" y="12047"/>
                  <a:pt x="16842" y="12030"/>
                </a:cubicBezTo>
                <a:cubicBezTo>
                  <a:pt x="16867" y="12022"/>
                  <a:pt x="16892" y="12013"/>
                  <a:pt x="16917" y="1200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4040" y="67770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037" y="18827"/>
                </a:moveTo>
                <a:lnTo>
                  <a:pt x="8037" y="18827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86800" y="608040"/>
            <a:ext cx="196560" cy="347760"/>
          </a:xfrm>
          <a:custGeom>
            <a:avLst/>
            <a:gdLst/>
            <a:ahLst/>
            <a:rect l="l" t="t" r="r" b="b"/>
            <a:pathLst>
              <a:path w="546" h="968">
                <a:moveTo>
                  <a:pt x="21679" y="1885"/>
                </a:moveTo>
                <a:cubicBezTo>
                  <a:pt x="21816" y="1749"/>
                  <a:pt x="21862" y="1700"/>
                  <a:pt x="22051" y="1712"/>
                </a:cubicBezTo>
                <a:cubicBezTo>
                  <a:pt x="22010" y="1938"/>
                  <a:pt x="21963" y="1988"/>
                  <a:pt x="21779" y="2133"/>
                </a:cubicBezTo>
                <a:cubicBezTo>
                  <a:pt x="21962" y="2110"/>
                  <a:pt x="22312" y="2166"/>
                  <a:pt x="22101" y="2431"/>
                </a:cubicBezTo>
                <a:cubicBezTo>
                  <a:pt x="21894" y="2587"/>
                  <a:pt x="21816" y="2640"/>
                  <a:pt x="21630" y="26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88160" y="490680"/>
            <a:ext cx="571680" cy="447480"/>
          </a:xfrm>
          <a:custGeom>
            <a:avLst/>
            <a:gdLst/>
            <a:ahLst/>
            <a:rect l="l" t="t" r="r" b="b"/>
            <a:pathLst>
              <a:path w="1588" h="1241">
                <a:moveTo>
                  <a:pt x="21357" y="2604"/>
                </a:moveTo>
                <a:cubicBezTo>
                  <a:pt x="21365" y="2220"/>
                  <a:pt x="21372" y="1845"/>
                  <a:pt x="21357" y="1463"/>
                </a:cubicBezTo>
                <a:cubicBezTo>
                  <a:pt x="21357" y="1447"/>
                  <a:pt x="21357" y="1430"/>
                  <a:pt x="21357" y="1414"/>
                </a:cubicBezTo>
                <a:cubicBezTo>
                  <a:pt x="21618" y="1326"/>
                  <a:pt x="22036" y="1412"/>
                  <a:pt x="22324" y="1414"/>
                </a:cubicBezTo>
                <a:cubicBezTo>
                  <a:pt x="22538" y="1416"/>
                  <a:pt x="22736" y="1407"/>
                  <a:pt x="22944" y="143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31040" y="561960"/>
            <a:ext cx="162000" cy="1620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20489" y="1563"/>
                </a:moveTo>
                <a:cubicBezTo>
                  <a:pt x="20474" y="1721"/>
                  <a:pt x="20450" y="1847"/>
                  <a:pt x="20365" y="1984"/>
                </a:cubicBezTo>
                <a:cubicBezTo>
                  <a:pt x="20517" y="2002"/>
                  <a:pt x="20655" y="1981"/>
                  <a:pt x="20811" y="196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6040" y="534960"/>
            <a:ext cx="34920" cy="420840"/>
          </a:xfrm>
          <a:custGeom>
            <a:avLst/>
            <a:gdLst/>
            <a:ahLst/>
            <a:rect l="l" t="t" r="r" b="b"/>
            <a:pathLst>
              <a:path w="100" h="1167">
                <a:moveTo>
                  <a:pt x="20836" y="1488"/>
                </a:moveTo>
                <a:cubicBezTo>
                  <a:pt x="20789" y="1830"/>
                  <a:pt x="20730" y="2208"/>
                  <a:pt x="20737" y="2555"/>
                </a:cubicBezTo>
                <a:cubicBezTo>
                  <a:pt x="20745" y="2588"/>
                  <a:pt x="20754" y="2621"/>
                  <a:pt x="20762" y="26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28000" y="884160"/>
            <a:ext cx="17280" cy="17640"/>
          </a:xfrm>
          <a:custGeom>
            <a:avLst/>
            <a:gdLst/>
            <a:ahLst/>
            <a:rect l="l" t="t" r="r" b="b"/>
            <a:pathLst>
              <a:path w="51" h="50">
                <a:moveTo>
                  <a:pt x="22299" y="2505"/>
                </a:moveTo>
                <a:cubicBezTo>
                  <a:pt x="22316" y="2489"/>
                  <a:pt x="22332" y="2472"/>
                  <a:pt x="22349" y="245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35920" y="401760"/>
            <a:ext cx="144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22324" y="1116"/>
                </a:moveTo>
                <a:cubicBezTo>
                  <a:pt x="22324" y="1133"/>
                  <a:pt x="22324" y="1149"/>
                  <a:pt x="22324" y="116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143920" y="704880"/>
            <a:ext cx="115920" cy="196920"/>
          </a:xfrm>
          <a:custGeom>
            <a:avLst/>
            <a:gdLst/>
            <a:ahLst/>
            <a:rect l="l" t="t" r="r" b="b"/>
            <a:pathLst>
              <a:path w="323" h="546">
                <a:moveTo>
                  <a:pt x="22771" y="1984"/>
                </a:moveTo>
                <a:cubicBezTo>
                  <a:pt x="22652" y="2000"/>
                  <a:pt x="22618" y="2207"/>
                  <a:pt x="22622" y="2356"/>
                </a:cubicBezTo>
                <a:cubicBezTo>
                  <a:pt x="22625" y="2460"/>
                  <a:pt x="22650" y="2465"/>
                  <a:pt x="22721" y="2505"/>
                </a:cubicBezTo>
                <a:cubicBezTo>
                  <a:pt x="22849" y="2420"/>
                  <a:pt x="22963" y="2334"/>
                  <a:pt x="22944" y="2158"/>
                </a:cubicBezTo>
                <a:cubicBezTo>
                  <a:pt x="22934" y="2068"/>
                  <a:pt x="22831" y="2089"/>
                  <a:pt x="22771" y="208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70920" y="482760"/>
            <a:ext cx="54000" cy="17280"/>
          </a:xfrm>
          <a:custGeom>
            <a:avLst/>
            <a:gdLst/>
            <a:ahLst/>
            <a:rect l="l" t="t" r="r" b="b"/>
            <a:pathLst>
              <a:path w="150" h="51">
                <a:moveTo>
                  <a:pt x="22696" y="1339"/>
                </a:moveTo>
                <a:cubicBezTo>
                  <a:pt x="22752" y="1367"/>
                  <a:pt x="22784" y="1381"/>
                  <a:pt x="22845" y="138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53280" y="125280"/>
            <a:ext cx="142920" cy="295560"/>
          </a:xfrm>
          <a:custGeom>
            <a:avLst/>
            <a:gdLst/>
            <a:ahLst/>
            <a:rect l="l" t="t" r="r" b="b"/>
            <a:pathLst>
              <a:path w="398" h="820">
                <a:moveTo>
                  <a:pt x="22647" y="521"/>
                </a:moveTo>
                <a:cubicBezTo>
                  <a:pt x="22647" y="546"/>
                  <a:pt x="22647" y="570"/>
                  <a:pt x="22647" y="595"/>
                </a:cubicBezTo>
                <a:cubicBezTo>
                  <a:pt x="22647" y="682"/>
                  <a:pt x="22628" y="499"/>
                  <a:pt x="22721" y="471"/>
                </a:cubicBezTo>
                <a:cubicBezTo>
                  <a:pt x="22842" y="435"/>
                  <a:pt x="22940" y="422"/>
                  <a:pt x="23044" y="347"/>
                </a:cubicBezTo>
                <a:cubicBezTo>
                  <a:pt x="23024" y="637"/>
                  <a:pt x="22959" y="890"/>
                  <a:pt x="22870" y="116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75720" y="982800"/>
            <a:ext cx="179280" cy="214200"/>
          </a:xfrm>
          <a:custGeom>
            <a:avLst/>
            <a:gdLst/>
            <a:ahLst/>
            <a:rect l="l" t="t" r="r" b="b"/>
            <a:pathLst>
              <a:path w="497" h="596">
                <a:moveTo>
                  <a:pt x="22027" y="2729"/>
                </a:moveTo>
                <a:cubicBezTo>
                  <a:pt x="22182" y="2742"/>
                  <a:pt x="22468" y="2809"/>
                  <a:pt x="22349" y="3051"/>
                </a:cubicBezTo>
                <a:cubicBezTo>
                  <a:pt x="22175" y="3225"/>
                  <a:pt x="22118" y="3282"/>
                  <a:pt x="21952" y="3324"/>
                </a:cubicBezTo>
                <a:cubicBezTo>
                  <a:pt x="21927" y="3307"/>
                  <a:pt x="21903" y="3291"/>
                  <a:pt x="21878" y="3274"/>
                </a:cubicBezTo>
                <a:cubicBezTo>
                  <a:pt x="22083" y="3016"/>
                  <a:pt x="22189" y="2823"/>
                  <a:pt x="22374" y="31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15200" y="1000080"/>
            <a:ext cx="81000" cy="162000"/>
          </a:xfrm>
          <a:custGeom>
            <a:avLst/>
            <a:gdLst/>
            <a:ahLst/>
            <a:rect l="l" t="t" r="r" b="b"/>
            <a:pathLst>
              <a:path w="225" h="448">
                <a:moveTo>
                  <a:pt x="22845" y="2853"/>
                </a:moveTo>
                <a:cubicBezTo>
                  <a:pt x="22890" y="2937"/>
                  <a:pt x="23142" y="3087"/>
                  <a:pt x="22994" y="3200"/>
                </a:cubicBezTo>
                <a:cubicBezTo>
                  <a:pt x="22692" y="3429"/>
                  <a:pt x="22963" y="2825"/>
                  <a:pt x="22994" y="277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66080" y="1231920"/>
            <a:ext cx="258840" cy="71280"/>
          </a:xfrm>
          <a:custGeom>
            <a:avLst/>
            <a:gdLst/>
            <a:ahLst/>
            <a:rect l="l" t="t" r="r" b="b"/>
            <a:pathLst>
              <a:path w="720" h="199">
                <a:moveTo>
                  <a:pt x="22126" y="3621"/>
                </a:moveTo>
                <a:cubicBezTo>
                  <a:pt x="22486" y="3501"/>
                  <a:pt x="22598" y="3462"/>
                  <a:pt x="22845" y="342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42200" y="1428840"/>
            <a:ext cx="169920" cy="14292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22944" y="3994"/>
                </a:moveTo>
                <a:cubicBezTo>
                  <a:pt x="23041" y="3989"/>
                  <a:pt x="23575" y="4032"/>
                  <a:pt x="23316" y="4266"/>
                </a:cubicBezTo>
                <a:cubicBezTo>
                  <a:pt x="23171" y="4397"/>
                  <a:pt x="23006" y="4360"/>
                  <a:pt x="22895" y="4291"/>
                </a:cubicBezTo>
                <a:cubicBezTo>
                  <a:pt x="23079" y="4208"/>
                  <a:pt x="23138" y="4220"/>
                  <a:pt x="23341" y="426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466120" y="1393920"/>
            <a:ext cx="142920" cy="106200"/>
          </a:xfrm>
          <a:custGeom>
            <a:avLst/>
            <a:gdLst/>
            <a:ahLst/>
            <a:rect l="l" t="t" r="r" b="b"/>
            <a:pathLst>
              <a:path w="398" h="298">
                <a:moveTo>
                  <a:pt x="23688" y="3870"/>
                </a:moveTo>
                <a:cubicBezTo>
                  <a:pt x="23584" y="4015"/>
                  <a:pt x="23558" y="4042"/>
                  <a:pt x="23515" y="4142"/>
                </a:cubicBezTo>
                <a:cubicBezTo>
                  <a:pt x="23783" y="4185"/>
                  <a:pt x="23852" y="4197"/>
                  <a:pt x="23912" y="394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13840" y="125280"/>
            <a:ext cx="152280" cy="231840"/>
          </a:xfrm>
          <a:custGeom>
            <a:avLst/>
            <a:gdLst/>
            <a:ahLst/>
            <a:rect l="l" t="t" r="r" b="b"/>
            <a:pathLst>
              <a:path w="423" h="646">
                <a:moveTo>
                  <a:pt x="23366" y="347"/>
                </a:moveTo>
                <a:cubicBezTo>
                  <a:pt x="23181" y="409"/>
                  <a:pt x="23182" y="381"/>
                  <a:pt x="23143" y="546"/>
                </a:cubicBezTo>
                <a:cubicBezTo>
                  <a:pt x="23120" y="613"/>
                  <a:pt x="23115" y="631"/>
                  <a:pt x="23093" y="670"/>
                </a:cubicBezTo>
                <a:cubicBezTo>
                  <a:pt x="23233" y="670"/>
                  <a:pt x="23426" y="611"/>
                  <a:pt x="23515" y="744"/>
                </a:cubicBezTo>
                <a:cubicBezTo>
                  <a:pt x="23652" y="950"/>
                  <a:pt x="23184" y="967"/>
                  <a:pt x="23118" y="9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12120" y="696960"/>
            <a:ext cx="98640" cy="160200"/>
          </a:xfrm>
          <a:custGeom>
            <a:avLst/>
            <a:gdLst/>
            <a:ahLst/>
            <a:rect l="l" t="t" r="r" b="b"/>
            <a:pathLst>
              <a:path w="274" h="447">
                <a:moveTo>
                  <a:pt x="23540" y="1935"/>
                </a:moveTo>
                <a:cubicBezTo>
                  <a:pt x="23409" y="1993"/>
                  <a:pt x="23325" y="2169"/>
                  <a:pt x="23366" y="2332"/>
                </a:cubicBezTo>
                <a:cubicBezTo>
                  <a:pt x="23383" y="2348"/>
                  <a:pt x="23399" y="2365"/>
                  <a:pt x="23416" y="2381"/>
                </a:cubicBezTo>
                <a:cubicBezTo>
                  <a:pt x="23516" y="2334"/>
                  <a:pt x="23863" y="2027"/>
                  <a:pt x="23564" y="1935"/>
                </a:cubicBezTo>
                <a:cubicBezTo>
                  <a:pt x="23515" y="1943"/>
                  <a:pt x="23465" y="1952"/>
                  <a:pt x="23416" y="196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74040" y="990720"/>
            <a:ext cx="46080" cy="206280"/>
          </a:xfrm>
          <a:custGeom>
            <a:avLst/>
            <a:gdLst/>
            <a:ahLst/>
            <a:rect l="l" t="t" r="r" b="b"/>
            <a:pathLst>
              <a:path w="125" h="572">
                <a:moveTo>
                  <a:pt x="23540" y="2753"/>
                </a:moveTo>
                <a:cubicBezTo>
                  <a:pt x="23574" y="2947"/>
                  <a:pt x="23618" y="3132"/>
                  <a:pt x="23664" y="332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429760" y="1125360"/>
            <a:ext cx="160200" cy="106560"/>
          </a:xfrm>
          <a:custGeom>
            <a:avLst/>
            <a:gdLst/>
            <a:ahLst/>
            <a:rect l="l" t="t" r="r" b="b"/>
            <a:pathLst>
              <a:path w="447" h="299">
                <a:moveTo>
                  <a:pt x="23416" y="3225"/>
                </a:moveTo>
                <a:cubicBezTo>
                  <a:pt x="23499" y="3348"/>
                  <a:pt x="23507" y="3381"/>
                  <a:pt x="23589" y="3423"/>
                </a:cubicBezTo>
                <a:cubicBezTo>
                  <a:pt x="23694" y="3337"/>
                  <a:pt x="23775" y="3233"/>
                  <a:pt x="23862" y="31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that you know how to multiply fractions and mixed numbers, here is a tip that might make some of your problems easier to solv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to see if you can cross simplify before you multi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523880" y="4952880"/>
                <a:ext cx="1067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4537080" y="4205160"/>
            <a:ext cx="766800" cy="179640"/>
          </a:xfrm>
          <a:custGeom>
            <a:avLst/>
            <a:gdLst/>
            <a:ahLst/>
            <a:rect l="l" t="t" r="r" b="b"/>
            <a:pathLst>
              <a:path w="2134" h="497">
                <a:moveTo>
                  <a:pt x="12650" y="12005"/>
                </a:moveTo>
                <a:cubicBezTo>
                  <a:pt x="12783" y="12050"/>
                  <a:pt x="12905" y="12024"/>
                  <a:pt x="13047" y="12005"/>
                </a:cubicBezTo>
                <a:cubicBezTo>
                  <a:pt x="13270" y="11976"/>
                  <a:pt x="13455" y="11924"/>
                  <a:pt x="13667" y="11857"/>
                </a:cubicBezTo>
                <a:cubicBezTo>
                  <a:pt x="13785" y="11820"/>
                  <a:pt x="13893" y="11770"/>
                  <a:pt x="14015" y="11733"/>
                </a:cubicBezTo>
                <a:cubicBezTo>
                  <a:pt x="14107" y="11705"/>
                  <a:pt x="14146" y="11683"/>
                  <a:pt x="14238" y="11683"/>
                </a:cubicBezTo>
                <a:cubicBezTo>
                  <a:pt x="14332" y="11683"/>
                  <a:pt x="14401" y="11676"/>
                  <a:pt x="14486" y="11708"/>
                </a:cubicBezTo>
              </a:path>
              <a:path w="2134" h="497">
                <a:moveTo>
                  <a:pt x="12601" y="11782"/>
                </a:moveTo>
                <a:cubicBezTo>
                  <a:pt x="12736" y="11702"/>
                  <a:pt x="12837" y="11748"/>
                  <a:pt x="12998" y="11757"/>
                </a:cubicBezTo>
                <a:cubicBezTo>
                  <a:pt x="13205" y="11769"/>
                  <a:pt x="13413" y="11722"/>
                  <a:pt x="13618" y="11708"/>
                </a:cubicBezTo>
                <a:cubicBezTo>
                  <a:pt x="13760" y="11698"/>
                  <a:pt x="13893" y="11719"/>
                  <a:pt x="14039" y="11708"/>
                </a:cubicBezTo>
                <a:cubicBezTo>
                  <a:pt x="14167" y="11698"/>
                  <a:pt x="14263" y="11694"/>
                  <a:pt x="14387" y="11708"/>
                </a:cubicBezTo>
                <a:cubicBezTo>
                  <a:pt x="14455" y="11716"/>
                  <a:pt x="14518" y="11725"/>
                  <a:pt x="14585" y="11733"/>
                </a:cubicBezTo>
              </a:path>
              <a:path w="2134" h="497">
                <a:moveTo>
                  <a:pt x="12874" y="12179"/>
                </a:moveTo>
                <a:cubicBezTo>
                  <a:pt x="12903" y="12063"/>
                  <a:pt x="12883" y="12084"/>
                  <a:pt x="13047" y="12080"/>
                </a:cubicBezTo>
                <a:cubicBezTo>
                  <a:pt x="13315" y="12074"/>
                  <a:pt x="13552" y="12049"/>
                  <a:pt x="13816" y="12005"/>
                </a:cubicBezTo>
                <a:cubicBezTo>
                  <a:pt x="14047" y="11966"/>
                  <a:pt x="14279" y="11968"/>
                  <a:pt x="14511" y="11931"/>
                </a:cubicBezTo>
                <a:cubicBezTo>
                  <a:pt x="14636" y="11910"/>
                  <a:pt x="14663" y="11909"/>
                  <a:pt x="14734" y="1188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7120" y="4680000"/>
            <a:ext cx="2401920" cy="1535040"/>
          </a:xfrm>
          <a:custGeom>
            <a:avLst/>
            <a:gdLst/>
            <a:ahLst/>
            <a:rect l="l" t="t" r="r" b="b"/>
            <a:pathLst>
              <a:path w="6673" h="4267">
                <a:moveTo>
                  <a:pt x="5358" y="15156"/>
                </a:moveTo>
                <a:cubicBezTo>
                  <a:pt x="5340" y="15029"/>
                  <a:pt x="5380" y="15068"/>
                  <a:pt x="5531" y="15156"/>
                </a:cubicBezTo>
                <a:cubicBezTo>
                  <a:pt x="5586" y="15188"/>
                  <a:pt x="5938" y="15441"/>
                  <a:pt x="5879" y="15379"/>
                </a:cubicBezTo>
                <a:cubicBezTo>
                  <a:pt x="5763" y="15257"/>
                  <a:pt x="5588" y="15179"/>
                  <a:pt x="5457" y="15081"/>
                </a:cubicBezTo>
                <a:cubicBezTo>
                  <a:pt x="5432" y="15065"/>
                  <a:pt x="5408" y="15048"/>
                  <a:pt x="5383" y="15032"/>
                </a:cubicBezTo>
                <a:cubicBezTo>
                  <a:pt x="5570" y="15141"/>
                  <a:pt x="5731" y="15275"/>
                  <a:pt x="5904" y="15404"/>
                </a:cubicBezTo>
                <a:cubicBezTo>
                  <a:pt x="5929" y="15420"/>
                  <a:pt x="5953" y="15437"/>
                  <a:pt x="5978" y="15453"/>
                </a:cubicBezTo>
                <a:cubicBezTo>
                  <a:pt x="5797" y="15319"/>
                  <a:pt x="5623" y="15183"/>
                  <a:pt x="5457" y="15032"/>
                </a:cubicBezTo>
                <a:cubicBezTo>
                  <a:pt x="5304" y="14893"/>
                  <a:pt x="5786" y="15282"/>
                  <a:pt x="5953" y="15404"/>
                </a:cubicBezTo>
                <a:cubicBezTo>
                  <a:pt x="5978" y="15420"/>
                  <a:pt x="6003" y="15437"/>
                  <a:pt x="6028" y="15453"/>
                </a:cubicBezTo>
                <a:cubicBezTo>
                  <a:pt x="5820" y="15337"/>
                  <a:pt x="5237" y="14941"/>
                  <a:pt x="5457" y="15032"/>
                </a:cubicBezTo>
                <a:cubicBezTo>
                  <a:pt x="5637" y="15107"/>
                  <a:pt x="5784" y="15302"/>
                  <a:pt x="5928" y="15429"/>
                </a:cubicBezTo>
                <a:cubicBezTo>
                  <a:pt x="6078" y="15561"/>
                  <a:pt x="5636" y="15160"/>
                  <a:pt x="5507" y="15007"/>
                </a:cubicBezTo>
                <a:cubicBezTo>
                  <a:pt x="5484" y="14984"/>
                  <a:pt x="5473" y="14976"/>
                  <a:pt x="5507" y="14982"/>
                </a:cubicBezTo>
                <a:cubicBezTo>
                  <a:pt x="5662" y="15104"/>
                  <a:pt x="5797" y="15212"/>
                  <a:pt x="5904" y="15379"/>
                </a:cubicBezTo>
              </a:path>
              <a:path w="6673" h="4267">
                <a:moveTo>
                  <a:pt x="5407" y="15032"/>
                </a:moveTo>
                <a:cubicBezTo>
                  <a:pt x="5504" y="15103"/>
                  <a:pt x="5620" y="15213"/>
                  <a:pt x="5705" y="15304"/>
                </a:cubicBezTo>
                <a:cubicBezTo>
                  <a:pt x="5771" y="15375"/>
                  <a:pt x="5779" y="15445"/>
                  <a:pt x="5879" y="15453"/>
                </a:cubicBezTo>
                <a:cubicBezTo>
                  <a:pt x="5914" y="15453"/>
                  <a:pt x="5931" y="15458"/>
                  <a:pt x="5953" y="15478"/>
                </a:cubicBezTo>
                <a:cubicBezTo>
                  <a:pt x="6026" y="15551"/>
                  <a:pt x="5879" y="15404"/>
                  <a:pt x="5879" y="15404"/>
                </a:cubicBezTo>
                <a:cubicBezTo>
                  <a:pt x="5794" y="15354"/>
                  <a:pt x="5651" y="15280"/>
                  <a:pt x="5581" y="15205"/>
                </a:cubicBezTo>
                <a:cubicBezTo>
                  <a:pt x="5573" y="15189"/>
                  <a:pt x="5564" y="15172"/>
                  <a:pt x="5556" y="15156"/>
                </a:cubicBezTo>
                <a:cubicBezTo>
                  <a:pt x="5372" y="15049"/>
                  <a:pt x="5608" y="15224"/>
                  <a:pt x="5655" y="15255"/>
                </a:cubicBezTo>
                <a:cubicBezTo>
                  <a:pt x="5761" y="15325"/>
                  <a:pt x="5876" y="15387"/>
                  <a:pt x="5978" y="15453"/>
                </a:cubicBezTo>
                <a:cubicBezTo>
                  <a:pt x="6008" y="15483"/>
                  <a:pt x="6022" y="15494"/>
                  <a:pt x="6052" y="15503"/>
                </a:cubicBezTo>
              </a:path>
              <a:path w="6673" h="4267">
                <a:moveTo>
                  <a:pt x="4514" y="13866"/>
                </a:moveTo>
                <a:cubicBezTo>
                  <a:pt x="4701" y="13973"/>
                  <a:pt x="4835" y="14157"/>
                  <a:pt x="4961" y="14337"/>
                </a:cubicBezTo>
                <a:cubicBezTo>
                  <a:pt x="5025" y="14429"/>
                  <a:pt x="5075" y="14521"/>
                  <a:pt x="5135" y="14610"/>
                </a:cubicBezTo>
              </a:path>
              <a:path w="6673" h="4267">
                <a:moveTo>
                  <a:pt x="4738" y="13146"/>
                </a:moveTo>
                <a:cubicBezTo>
                  <a:pt x="4762" y="13295"/>
                  <a:pt x="4783" y="13439"/>
                  <a:pt x="4787" y="13593"/>
                </a:cubicBezTo>
                <a:cubicBezTo>
                  <a:pt x="4787" y="13618"/>
                  <a:pt x="4787" y="13642"/>
                  <a:pt x="4787" y="13667"/>
                </a:cubicBezTo>
              </a:path>
              <a:path w="6673" h="4267">
                <a:moveTo>
                  <a:pt x="6325" y="15652"/>
                </a:moveTo>
                <a:cubicBezTo>
                  <a:pt x="6473" y="15820"/>
                  <a:pt x="6593" y="16009"/>
                  <a:pt x="6747" y="16173"/>
                </a:cubicBezTo>
                <a:cubicBezTo>
                  <a:pt x="6805" y="16231"/>
                  <a:pt x="6813" y="16239"/>
                  <a:pt x="6846" y="16272"/>
                </a:cubicBezTo>
              </a:path>
              <a:path w="6673" h="4267">
                <a:moveTo>
                  <a:pt x="6424" y="16619"/>
                </a:moveTo>
                <a:cubicBezTo>
                  <a:pt x="6451" y="16513"/>
                  <a:pt x="6503" y="16471"/>
                  <a:pt x="6598" y="16545"/>
                </a:cubicBezTo>
                <a:cubicBezTo>
                  <a:pt x="6675" y="16605"/>
                  <a:pt x="6687" y="16663"/>
                  <a:pt x="6648" y="16743"/>
                </a:cubicBezTo>
                <a:cubicBezTo>
                  <a:pt x="6611" y="16818"/>
                  <a:pt x="6543" y="16805"/>
                  <a:pt x="6499" y="16867"/>
                </a:cubicBezTo>
                <a:cubicBezTo>
                  <a:pt x="6459" y="16924"/>
                  <a:pt x="6414" y="17024"/>
                  <a:pt x="6400" y="17090"/>
                </a:cubicBezTo>
                <a:cubicBezTo>
                  <a:pt x="6393" y="17122"/>
                  <a:pt x="6400" y="17181"/>
                  <a:pt x="6400" y="17214"/>
                </a:cubicBezTo>
                <a:cubicBezTo>
                  <a:pt x="6405" y="17198"/>
                  <a:pt x="6445" y="16995"/>
                  <a:pt x="6524" y="17041"/>
                </a:cubicBezTo>
                <a:cubicBezTo>
                  <a:pt x="6586" y="17077"/>
                  <a:pt x="6640" y="17216"/>
                  <a:pt x="6697" y="17264"/>
                </a:cubicBezTo>
                <a:cubicBezTo>
                  <a:pt x="6767" y="17323"/>
                  <a:pt x="6828" y="17176"/>
                  <a:pt x="6846" y="17140"/>
                </a:cubicBezTo>
              </a:path>
              <a:path w="6673" h="4267">
                <a:moveTo>
                  <a:pt x="5829" y="14808"/>
                </a:moveTo>
                <a:cubicBezTo>
                  <a:pt x="5783" y="14858"/>
                  <a:pt x="5421" y="15189"/>
                  <a:pt x="5432" y="15230"/>
                </a:cubicBezTo>
                <a:cubicBezTo>
                  <a:pt x="5487" y="15435"/>
                  <a:pt x="5848" y="14637"/>
                  <a:pt x="5928" y="14833"/>
                </a:cubicBezTo>
                <a:cubicBezTo>
                  <a:pt x="5970" y="14936"/>
                  <a:pt x="5465" y="15358"/>
                  <a:pt x="5383" y="15429"/>
                </a:cubicBezTo>
                <a:cubicBezTo>
                  <a:pt x="5196" y="15590"/>
                  <a:pt x="5728" y="15105"/>
                  <a:pt x="5779" y="15056"/>
                </a:cubicBezTo>
                <a:cubicBezTo>
                  <a:pt x="5821" y="15015"/>
                  <a:pt x="5862" y="14973"/>
                  <a:pt x="5904" y="14932"/>
                </a:cubicBezTo>
                <a:cubicBezTo>
                  <a:pt x="5716" y="15149"/>
                  <a:pt x="5512" y="15350"/>
                  <a:pt x="5308" y="15553"/>
                </a:cubicBezTo>
                <a:cubicBezTo>
                  <a:pt x="5125" y="15734"/>
                  <a:pt x="5620" y="15236"/>
                  <a:pt x="5804" y="15056"/>
                </a:cubicBezTo>
                <a:cubicBezTo>
                  <a:pt x="6052" y="14814"/>
                  <a:pt x="5436" y="15433"/>
                  <a:pt x="5333" y="15528"/>
                </a:cubicBezTo>
                <a:cubicBezTo>
                  <a:pt x="5316" y="15544"/>
                  <a:pt x="5300" y="15561"/>
                  <a:pt x="5283" y="15577"/>
                </a:cubicBezTo>
                <a:cubicBezTo>
                  <a:pt x="5486" y="15346"/>
                  <a:pt x="5725" y="15142"/>
                  <a:pt x="5953" y="14932"/>
                </a:cubicBezTo>
                <a:cubicBezTo>
                  <a:pt x="6123" y="14776"/>
                  <a:pt x="5563" y="15298"/>
                  <a:pt x="5556" y="15304"/>
                </a:cubicBezTo>
                <a:cubicBezTo>
                  <a:pt x="5310" y="15526"/>
                  <a:pt x="5247" y="15572"/>
                  <a:pt x="5531" y="15280"/>
                </a:cubicBezTo>
                <a:cubicBezTo>
                  <a:pt x="5686" y="15120"/>
                  <a:pt x="5846" y="14965"/>
                  <a:pt x="6003" y="14808"/>
                </a:cubicBezTo>
                <a:cubicBezTo>
                  <a:pt x="5828" y="15026"/>
                  <a:pt x="5628" y="15228"/>
                  <a:pt x="5432" y="15429"/>
                </a:cubicBezTo>
                <a:cubicBezTo>
                  <a:pt x="5407" y="15454"/>
                  <a:pt x="5383" y="15478"/>
                  <a:pt x="5358" y="15503"/>
                </a:cubicBezTo>
                <a:cubicBezTo>
                  <a:pt x="5414" y="15437"/>
                  <a:pt x="5920" y="14852"/>
                  <a:pt x="5928" y="14858"/>
                </a:cubicBezTo>
                <a:cubicBezTo>
                  <a:pt x="6099" y="14983"/>
                  <a:pt x="5357" y="15479"/>
                  <a:pt x="5507" y="15329"/>
                </a:cubicBezTo>
                <a:cubicBezTo>
                  <a:pt x="5611" y="15225"/>
                  <a:pt x="5704" y="15115"/>
                  <a:pt x="5804" y="15007"/>
                </a:cubicBezTo>
              </a:path>
              <a:path w="6673" h="4267">
                <a:moveTo>
                  <a:pt x="6995" y="13891"/>
                </a:moveTo>
                <a:cubicBezTo>
                  <a:pt x="6797" y="13791"/>
                  <a:pt x="6550" y="14259"/>
                  <a:pt x="6449" y="14362"/>
                </a:cubicBezTo>
                <a:cubicBezTo>
                  <a:pt x="6295" y="14498"/>
                  <a:pt x="6277" y="14524"/>
                  <a:pt x="6176" y="14585"/>
                </a:cubicBezTo>
              </a:path>
              <a:path w="6673" h="4267">
                <a:moveTo>
                  <a:pt x="6896" y="12998"/>
                </a:moveTo>
                <a:cubicBezTo>
                  <a:pt x="6843" y="13172"/>
                  <a:pt x="6770" y="13333"/>
                  <a:pt x="6747" y="13519"/>
                </a:cubicBezTo>
                <a:cubicBezTo>
                  <a:pt x="6747" y="13587"/>
                  <a:pt x="6750" y="13606"/>
                  <a:pt x="6722" y="13643"/>
                </a:cubicBezTo>
              </a:path>
              <a:path w="6673" h="4267">
                <a:moveTo>
                  <a:pt x="5035" y="15528"/>
                </a:moveTo>
                <a:cubicBezTo>
                  <a:pt x="4814" y="15661"/>
                  <a:pt x="4643" y="15879"/>
                  <a:pt x="4440" y="16049"/>
                </a:cubicBezTo>
                <a:cubicBezTo>
                  <a:pt x="4373" y="16105"/>
                  <a:pt x="4316" y="16135"/>
                  <a:pt x="4242" y="16173"/>
                </a:cubicBezTo>
              </a:path>
              <a:path w="6673" h="4267">
                <a:moveTo>
                  <a:pt x="4514" y="16545"/>
                </a:moveTo>
                <a:cubicBezTo>
                  <a:pt x="4581" y="16538"/>
                  <a:pt x="4646" y="16527"/>
                  <a:pt x="4713" y="16520"/>
                </a:cubicBezTo>
                <a:cubicBezTo>
                  <a:pt x="4730" y="16709"/>
                  <a:pt x="4714" y="16746"/>
                  <a:pt x="4589" y="16892"/>
                </a:cubicBezTo>
                <a:cubicBezTo>
                  <a:pt x="4668" y="16839"/>
                  <a:pt x="4767" y="16800"/>
                  <a:pt x="4787" y="16942"/>
                </a:cubicBezTo>
                <a:cubicBezTo>
                  <a:pt x="4814" y="17129"/>
                  <a:pt x="4665" y="17162"/>
                  <a:pt x="4514" y="17190"/>
                </a:cubicBezTo>
              </a:path>
              <a:path w="6673" h="4267">
                <a:moveTo>
                  <a:pt x="7565" y="14808"/>
                </a:moveTo>
                <a:cubicBezTo>
                  <a:pt x="7673" y="14788"/>
                  <a:pt x="7776" y="14784"/>
                  <a:pt x="7888" y="14784"/>
                </a:cubicBezTo>
              </a:path>
              <a:path w="6673" h="4267">
                <a:moveTo>
                  <a:pt x="7565" y="15131"/>
                </a:moveTo>
                <a:cubicBezTo>
                  <a:pt x="7689" y="15125"/>
                  <a:pt x="7793" y="15113"/>
                  <a:pt x="7913" y="15081"/>
                </a:cubicBezTo>
              </a:path>
              <a:path w="6673" h="4267">
                <a:moveTo>
                  <a:pt x="9351" y="13816"/>
                </a:moveTo>
                <a:cubicBezTo>
                  <a:pt x="9399" y="14088"/>
                  <a:pt x="9351" y="14357"/>
                  <a:pt x="9327" y="14635"/>
                </a:cubicBezTo>
                <a:cubicBezTo>
                  <a:pt x="9327" y="14651"/>
                  <a:pt x="9327" y="14668"/>
                  <a:pt x="9327" y="14684"/>
                </a:cubicBezTo>
              </a:path>
              <a:path w="6673" h="4267">
                <a:moveTo>
                  <a:pt x="9203" y="14684"/>
                </a:moveTo>
                <a:cubicBezTo>
                  <a:pt x="9343" y="14657"/>
                  <a:pt x="9754" y="14513"/>
                  <a:pt x="9773" y="14635"/>
                </a:cubicBezTo>
              </a:path>
              <a:path w="6673" h="4267">
                <a:moveTo>
                  <a:pt x="9575" y="14734"/>
                </a:moveTo>
                <a:cubicBezTo>
                  <a:pt x="9456" y="14970"/>
                  <a:pt x="9363" y="15226"/>
                  <a:pt x="9277" y="15478"/>
                </a:cubicBezTo>
                <a:cubicBezTo>
                  <a:pt x="9269" y="15511"/>
                  <a:pt x="9260" y="15544"/>
                  <a:pt x="9252" y="15577"/>
                </a:cubicBezTo>
                <a:cubicBezTo>
                  <a:pt x="9400" y="15634"/>
                  <a:pt x="9553" y="15589"/>
                  <a:pt x="9674" y="15453"/>
                </a:cubicBezTo>
                <a:cubicBezTo>
                  <a:pt x="9758" y="15358"/>
                  <a:pt x="9801" y="15217"/>
                  <a:pt x="9674" y="15180"/>
                </a:cubicBezTo>
                <a:cubicBezTo>
                  <a:pt x="9562" y="15330"/>
                  <a:pt x="9518" y="15476"/>
                  <a:pt x="9451" y="15652"/>
                </a:cubicBezTo>
              </a:path>
              <a:path w="6673" h="4267">
                <a:moveTo>
                  <a:pt x="9029" y="14660"/>
                </a:moveTo>
                <a:cubicBezTo>
                  <a:pt x="9169" y="14633"/>
                  <a:pt x="9310" y="14603"/>
                  <a:pt x="9451" y="14585"/>
                </a:cubicBezTo>
              </a:path>
              <a:path w="6673" h="4267">
                <a:moveTo>
                  <a:pt x="8458" y="15652"/>
                </a:moveTo>
                <a:cubicBezTo>
                  <a:pt x="8655" y="15914"/>
                  <a:pt x="8801" y="16087"/>
                  <a:pt x="9153" y="16098"/>
                </a:cubicBezTo>
                <a:cubicBezTo>
                  <a:pt x="9612" y="16112"/>
                  <a:pt x="10192" y="15906"/>
                  <a:pt x="10492" y="15553"/>
                </a:cubicBezTo>
                <a:cubicBezTo>
                  <a:pt x="10899" y="15075"/>
                  <a:pt x="11046" y="14428"/>
                  <a:pt x="10790" y="13841"/>
                </a:cubicBezTo>
                <a:cubicBezTo>
                  <a:pt x="10599" y="13404"/>
                  <a:pt x="10038" y="13292"/>
                  <a:pt x="9624" y="13196"/>
                </a:cubicBezTo>
                <a:cubicBezTo>
                  <a:pt x="9149" y="13086"/>
                  <a:pt x="8769" y="13172"/>
                  <a:pt x="8607" y="13692"/>
                </a:cubicBezTo>
                <a:cubicBezTo>
                  <a:pt x="8348" y="14525"/>
                  <a:pt x="8267" y="15327"/>
                  <a:pt x="8706" y="160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45000" y="4143240"/>
            <a:ext cx="2152800" cy="108000"/>
          </a:xfrm>
          <a:custGeom>
            <a:avLst/>
            <a:gdLst/>
            <a:ahLst/>
            <a:rect l="l" t="t" r="r" b="b"/>
            <a:pathLst>
              <a:path w="5979" h="299">
                <a:moveTo>
                  <a:pt x="12626" y="11807"/>
                </a:moveTo>
                <a:cubicBezTo>
                  <a:pt x="12892" y="11807"/>
                  <a:pt x="13162" y="11804"/>
                  <a:pt x="13419" y="11782"/>
                </a:cubicBezTo>
                <a:cubicBezTo>
                  <a:pt x="13499" y="11775"/>
                  <a:pt x="13607" y="11809"/>
                  <a:pt x="13667" y="11807"/>
                </a:cubicBezTo>
                <a:cubicBezTo>
                  <a:pt x="13756" y="11803"/>
                  <a:pt x="13872" y="11792"/>
                  <a:pt x="13965" y="11782"/>
                </a:cubicBezTo>
                <a:cubicBezTo>
                  <a:pt x="14057" y="11773"/>
                  <a:pt x="14142" y="11759"/>
                  <a:pt x="14238" y="11757"/>
                </a:cubicBezTo>
                <a:cubicBezTo>
                  <a:pt x="14419" y="11754"/>
                  <a:pt x="14604" y="11752"/>
                  <a:pt x="14784" y="11733"/>
                </a:cubicBezTo>
                <a:cubicBezTo>
                  <a:pt x="14993" y="11711"/>
                  <a:pt x="15194" y="11709"/>
                  <a:pt x="15404" y="11733"/>
                </a:cubicBezTo>
                <a:cubicBezTo>
                  <a:pt x="15586" y="11753"/>
                  <a:pt x="15743" y="11738"/>
                  <a:pt x="15925" y="11733"/>
                </a:cubicBezTo>
                <a:cubicBezTo>
                  <a:pt x="16076" y="11729"/>
                  <a:pt x="16222" y="11717"/>
                  <a:pt x="16371" y="11708"/>
                </a:cubicBezTo>
                <a:cubicBezTo>
                  <a:pt x="16571" y="11696"/>
                  <a:pt x="16767" y="11671"/>
                  <a:pt x="16966" y="11658"/>
                </a:cubicBezTo>
                <a:cubicBezTo>
                  <a:pt x="17147" y="11646"/>
                  <a:pt x="17333" y="11638"/>
                  <a:pt x="17512" y="11609"/>
                </a:cubicBezTo>
                <a:cubicBezTo>
                  <a:pt x="17645" y="11587"/>
                  <a:pt x="17774" y="11562"/>
                  <a:pt x="17909" y="11559"/>
                </a:cubicBezTo>
                <a:cubicBezTo>
                  <a:pt x="18026" y="11556"/>
                  <a:pt x="18144" y="11541"/>
                  <a:pt x="18256" y="11534"/>
                </a:cubicBezTo>
                <a:cubicBezTo>
                  <a:pt x="18368" y="11527"/>
                  <a:pt x="18470" y="11523"/>
                  <a:pt x="18579" y="11509"/>
                </a:cubicBezTo>
                <a:cubicBezTo>
                  <a:pt x="18587" y="11509"/>
                  <a:pt x="18596" y="11509"/>
                  <a:pt x="18604" y="1150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8040" y="5249880"/>
            <a:ext cx="401760" cy="46080"/>
          </a:xfrm>
          <a:custGeom>
            <a:avLst/>
            <a:gdLst/>
            <a:ahLst/>
            <a:rect l="l" t="t" r="r" b="b"/>
            <a:pathLst>
              <a:path w="1117" h="125">
                <a:moveTo>
                  <a:pt x="1687" y="14709"/>
                </a:moveTo>
                <a:cubicBezTo>
                  <a:pt x="1786" y="14701"/>
                  <a:pt x="1889" y="14684"/>
                  <a:pt x="1984" y="14660"/>
                </a:cubicBezTo>
                <a:cubicBezTo>
                  <a:pt x="2054" y="14642"/>
                  <a:pt x="2147" y="14619"/>
                  <a:pt x="2208" y="14610"/>
                </a:cubicBezTo>
                <a:cubicBezTo>
                  <a:pt x="2356" y="14588"/>
                  <a:pt x="2506" y="14611"/>
                  <a:pt x="2654" y="14585"/>
                </a:cubicBezTo>
                <a:cubicBezTo>
                  <a:pt x="2702" y="14576"/>
                  <a:pt x="2754" y="14585"/>
                  <a:pt x="2803" y="1458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69000" y="5089680"/>
            <a:ext cx="2197080" cy="849240"/>
          </a:xfrm>
          <a:custGeom>
            <a:avLst/>
            <a:gdLst/>
            <a:ahLst/>
            <a:rect l="l" t="t" r="r" b="b"/>
            <a:pathLst>
              <a:path w="6103" h="2357">
                <a:moveTo>
                  <a:pt x="16297" y="14412"/>
                </a:moveTo>
                <a:cubicBezTo>
                  <a:pt x="16456" y="14291"/>
                  <a:pt x="16420" y="14337"/>
                  <a:pt x="16619" y="14337"/>
                </a:cubicBezTo>
                <a:cubicBezTo>
                  <a:pt x="16797" y="14681"/>
                  <a:pt x="16699" y="14876"/>
                  <a:pt x="16297" y="15032"/>
                </a:cubicBezTo>
                <a:cubicBezTo>
                  <a:pt x="16137" y="15054"/>
                  <a:pt x="16084" y="15075"/>
                  <a:pt x="16073" y="14932"/>
                </a:cubicBezTo>
                <a:cubicBezTo>
                  <a:pt x="16267" y="14790"/>
                  <a:pt x="16445" y="14713"/>
                  <a:pt x="16669" y="14883"/>
                </a:cubicBezTo>
                <a:cubicBezTo>
                  <a:pt x="16685" y="14908"/>
                  <a:pt x="16702" y="14932"/>
                  <a:pt x="16718" y="14957"/>
                </a:cubicBezTo>
              </a:path>
              <a:path w="6103" h="2357">
                <a:moveTo>
                  <a:pt x="16024" y="15304"/>
                </a:moveTo>
                <a:cubicBezTo>
                  <a:pt x="16358" y="15252"/>
                  <a:pt x="16681" y="15202"/>
                  <a:pt x="17016" y="15180"/>
                </a:cubicBezTo>
              </a:path>
              <a:path w="6103" h="2357">
                <a:moveTo>
                  <a:pt x="16619" y="15776"/>
                </a:moveTo>
                <a:cubicBezTo>
                  <a:pt x="16684" y="15664"/>
                  <a:pt x="16659" y="15523"/>
                  <a:pt x="16495" y="15503"/>
                </a:cubicBezTo>
                <a:cubicBezTo>
                  <a:pt x="16208" y="15467"/>
                  <a:pt x="16218" y="15803"/>
                  <a:pt x="16272" y="15949"/>
                </a:cubicBezTo>
                <a:cubicBezTo>
                  <a:pt x="16467" y="15829"/>
                  <a:pt x="16465" y="15771"/>
                  <a:pt x="16545" y="15553"/>
                </a:cubicBezTo>
                <a:cubicBezTo>
                  <a:pt x="16582" y="15777"/>
                  <a:pt x="16633" y="15987"/>
                  <a:pt x="16619" y="16222"/>
                </a:cubicBezTo>
                <a:cubicBezTo>
                  <a:pt x="16598" y="16347"/>
                  <a:pt x="16582" y="16420"/>
                  <a:pt x="16619" y="16297"/>
                </a:cubicBezTo>
              </a:path>
              <a:path w="6103" h="2357">
                <a:moveTo>
                  <a:pt x="17314" y="15205"/>
                </a:moveTo>
                <a:cubicBezTo>
                  <a:pt x="17448" y="15369"/>
                  <a:pt x="17576" y="15540"/>
                  <a:pt x="17711" y="15701"/>
                </a:cubicBezTo>
              </a:path>
              <a:path w="6103" h="2357">
                <a:moveTo>
                  <a:pt x="17537" y="15255"/>
                </a:moveTo>
                <a:cubicBezTo>
                  <a:pt x="17470" y="15466"/>
                  <a:pt x="17428" y="15564"/>
                  <a:pt x="17413" y="15776"/>
                </a:cubicBezTo>
              </a:path>
              <a:path w="6103" h="2357">
                <a:moveTo>
                  <a:pt x="18256" y="14486"/>
                </a:moveTo>
                <a:cubicBezTo>
                  <a:pt x="18406" y="14415"/>
                  <a:pt x="18714" y="14284"/>
                  <a:pt x="18479" y="14585"/>
                </a:cubicBezTo>
                <a:cubicBezTo>
                  <a:pt x="18438" y="14626"/>
                  <a:pt x="18396" y="14668"/>
                  <a:pt x="18355" y="14709"/>
                </a:cubicBezTo>
                <a:cubicBezTo>
                  <a:pt x="18275" y="14796"/>
                  <a:pt x="18739" y="14551"/>
                  <a:pt x="18628" y="14883"/>
                </a:cubicBezTo>
                <a:cubicBezTo>
                  <a:pt x="18566" y="15069"/>
                  <a:pt x="18367" y="15038"/>
                  <a:pt x="18231" y="15032"/>
                </a:cubicBezTo>
              </a:path>
              <a:path w="6103" h="2357">
                <a:moveTo>
                  <a:pt x="18132" y="15478"/>
                </a:moveTo>
                <a:cubicBezTo>
                  <a:pt x="18374" y="15471"/>
                  <a:pt x="18611" y="15453"/>
                  <a:pt x="18852" y="15429"/>
                </a:cubicBezTo>
              </a:path>
              <a:path w="6103" h="2357">
                <a:moveTo>
                  <a:pt x="18380" y="15701"/>
                </a:moveTo>
                <a:cubicBezTo>
                  <a:pt x="18417" y="15837"/>
                  <a:pt x="18394" y="15937"/>
                  <a:pt x="18355" y="16073"/>
                </a:cubicBezTo>
                <a:cubicBezTo>
                  <a:pt x="18514" y="16081"/>
                  <a:pt x="18579" y="16065"/>
                  <a:pt x="18728" y="15999"/>
                </a:cubicBezTo>
              </a:path>
              <a:path w="6103" h="2357">
                <a:moveTo>
                  <a:pt x="18653" y="15652"/>
                </a:moveTo>
                <a:cubicBezTo>
                  <a:pt x="18632" y="15869"/>
                  <a:pt x="18628" y="16079"/>
                  <a:pt x="18628" y="16297"/>
                </a:cubicBezTo>
              </a:path>
              <a:path w="6103" h="2357">
                <a:moveTo>
                  <a:pt x="19372" y="15156"/>
                </a:moveTo>
                <a:cubicBezTo>
                  <a:pt x="19492" y="15176"/>
                  <a:pt x="19597" y="15180"/>
                  <a:pt x="19720" y="15180"/>
                </a:cubicBezTo>
              </a:path>
              <a:path w="6103" h="2357">
                <a:moveTo>
                  <a:pt x="19596" y="15354"/>
                </a:moveTo>
                <a:cubicBezTo>
                  <a:pt x="19646" y="15346"/>
                  <a:pt x="19695" y="15337"/>
                  <a:pt x="19745" y="15329"/>
                </a:cubicBezTo>
              </a:path>
              <a:path w="6103" h="2357">
                <a:moveTo>
                  <a:pt x="20365" y="14486"/>
                </a:moveTo>
                <a:cubicBezTo>
                  <a:pt x="20328" y="14719"/>
                  <a:pt x="20258" y="14914"/>
                  <a:pt x="20340" y="15131"/>
                </a:cubicBezTo>
                <a:cubicBezTo>
                  <a:pt x="20605" y="15131"/>
                  <a:pt x="20675" y="15071"/>
                  <a:pt x="20687" y="14808"/>
                </a:cubicBezTo>
                <a:cubicBezTo>
                  <a:pt x="20506" y="14854"/>
                  <a:pt x="20490" y="14979"/>
                  <a:pt x="20439" y="15156"/>
                </a:cubicBezTo>
              </a:path>
              <a:path w="6103" h="2357">
                <a:moveTo>
                  <a:pt x="20141" y="15379"/>
                </a:moveTo>
                <a:cubicBezTo>
                  <a:pt x="20354" y="15379"/>
                  <a:pt x="20579" y="15323"/>
                  <a:pt x="20786" y="15329"/>
                </a:cubicBezTo>
                <a:cubicBezTo>
                  <a:pt x="20803" y="15337"/>
                  <a:pt x="20819" y="15346"/>
                  <a:pt x="20836" y="15354"/>
                </a:cubicBezTo>
              </a:path>
              <a:path w="6103" h="2357">
                <a:moveTo>
                  <a:pt x="20141" y="15801"/>
                </a:moveTo>
                <a:cubicBezTo>
                  <a:pt x="20177" y="15779"/>
                  <a:pt x="20518" y="15650"/>
                  <a:pt x="20414" y="15825"/>
                </a:cubicBezTo>
                <a:cubicBezTo>
                  <a:pt x="20322" y="15918"/>
                  <a:pt x="20298" y="15947"/>
                  <a:pt x="20216" y="15974"/>
                </a:cubicBezTo>
                <a:cubicBezTo>
                  <a:pt x="20320" y="15982"/>
                  <a:pt x="20367" y="15986"/>
                  <a:pt x="20439" y="16049"/>
                </a:cubicBezTo>
                <a:cubicBezTo>
                  <a:pt x="20288" y="16157"/>
                  <a:pt x="20233" y="16163"/>
                  <a:pt x="20067" y="16073"/>
                </a:cubicBezTo>
              </a:path>
              <a:path w="6103" h="2357">
                <a:moveTo>
                  <a:pt x="20712" y="15652"/>
                </a:moveTo>
                <a:cubicBezTo>
                  <a:pt x="20712" y="15809"/>
                  <a:pt x="20712" y="15966"/>
                  <a:pt x="20712" y="16123"/>
                </a:cubicBezTo>
                <a:cubicBezTo>
                  <a:pt x="20819" y="16115"/>
                  <a:pt x="21028" y="16111"/>
                  <a:pt x="21059" y="15974"/>
                </a:cubicBezTo>
                <a:cubicBezTo>
                  <a:pt x="21051" y="15949"/>
                  <a:pt x="21042" y="15925"/>
                  <a:pt x="21034" y="15900"/>
                </a:cubicBezTo>
                <a:cubicBezTo>
                  <a:pt x="20906" y="15943"/>
                  <a:pt x="20865" y="16005"/>
                  <a:pt x="20836" y="16148"/>
                </a:cubicBezTo>
              </a:path>
              <a:path w="6103" h="2357">
                <a:moveTo>
                  <a:pt x="21010" y="14660"/>
                </a:moveTo>
                <a:cubicBezTo>
                  <a:pt x="21100" y="14592"/>
                  <a:pt x="21123" y="14574"/>
                  <a:pt x="21183" y="14536"/>
                </a:cubicBezTo>
              </a:path>
              <a:path w="6103" h="2357">
                <a:moveTo>
                  <a:pt x="21084" y="14288"/>
                </a:moveTo>
                <a:cubicBezTo>
                  <a:pt x="21084" y="14313"/>
                  <a:pt x="21084" y="14337"/>
                  <a:pt x="21084" y="14362"/>
                </a:cubicBezTo>
              </a:path>
              <a:path w="6103" h="2357">
                <a:moveTo>
                  <a:pt x="21183" y="14808"/>
                </a:moveTo>
                <a:lnTo>
                  <a:pt x="21183" y="14808"/>
                </a:lnTo>
              </a:path>
              <a:path w="6103" h="2357">
                <a:moveTo>
                  <a:pt x="21382" y="14139"/>
                </a:moveTo>
                <a:cubicBezTo>
                  <a:pt x="21382" y="14205"/>
                  <a:pt x="21319" y="14544"/>
                  <a:pt x="21481" y="14511"/>
                </a:cubicBezTo>
                <a:cubicBezTo>
                  <a:pt x="21585" y="14490"/>
                  <a:pt x="21572" y="14390"/>
                  <a:pt x="21580" y="14312"/>
                </a:cubicBezTo>
                <a:cubicBezTo>
                  <a:pt x="21500" y="14352"/>
                  <a:pt x="21473" y="14392"/>
                  <a:pt x="21481" y="14486"/>
                </a:cubicBezTo>
              </a:path>
              <a:path w="6103" h="2357">
                <a:moveTo>
                  <a:pt x="21282" y="15974"/>
                </a:moveTo>
                <a:cubicBezTo>
                  <a:pt x="21360" y="16078"/>
                  <a:pt x="21427" y="16124"/>
                  <a:pt x="21530" y="16197"/>
                </a:cubicBezTo>
              </a:path>
              <a:path w="6103" h="2357">
                <a:moveTo>
                  <a:pt x="21431" y="15949"/>
                </a:moveTo>
                <a:cubicBezTo>
                  <a:pt x="21431" y="15966"/>
                  <a:pt x="21431" y="15982"/>
                  <a:pt x="21431" y="15999"/>
                </a:cubicBezTo>
              </a:path>
              <a:path w="6103" h="2357">
                <a:moveTo>
                  <a:pt x="21332" y="16297"/>
                </a:moveTo>
                <a:lnTo>
                  <a:pt x="21332" y="16297"/>
                </a:lnTo>
              </a:path>
              <a:path w="6103" h="2357">
                <a:moveTo>
                  <a:pt x="21803" y="16024"/>
                </a:moveTo>
                <a:cubicBezTo>
                  <a:pt x="21796" y="16144"/>
                  <a:pt x="21759" y="16253"/>
                  <a:pt x="21754" y="16371"/>
                </a:cubicBezTo>
                <a:cubicBezTo>
                  <a:pt x="21754" y="16423"/>
                  <a:pt x="21755" y="16441"/>
                  <a:pt x="21779" y="16470"/>
                </a:cubicBezTo>
                <a:cubicBezTo>
                  <a:pt x="21878" y="16463"/>
                  <a:pt x="22008" y="16463"/>
                  <a:pt x="22051" y="16346"/>
                </a:cubicBezTo>
                <a:cubicBezTo>
                  <a:pt x="22051" y="16295"/>
                  <a:pt x="22049" y="16278"/>
                  <a:pt x="22002" y="16272"/>
                </a:cubicBezTo>
                <a:cubicBezTo>
                  <a:pt x="21932" y="16356"/>
                  <a:pt x="21905" y="16394"/>
                  <a:pt x="21927" y="16495"/>
                </a:cubicBezTo>
              </a:path>
              <a:path w="6103" h="2357">
                <a:moveTo>
                  <a:pt x="21853" y="15280"/>
                </a:moveTo>
                <a:cubicBezTo>
                  <a:pt x="21944" y="15280"/>
                  <a:pt x="21969" y="15280"/>
                  <a:pt x="22027" y="15280"/>
                </a:cubicBezTo>
              </a:path>
              <a:path w="6103" h="2357">
                <a:moveTo>
                  <a:pt x="21853" y="15478"/>
                </a:moveTo>
                <a:cubicBezTo>
                  <a:pt x="21949" y="15472"/>
                  <a:pt x="22035" y="15459"/>
                  <a:pt x="22126" y="1542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15200" y="5126040"/>
            <a:ext cx="509760" cy="723960"/>
          </a:xfrm>
          <a:custGeom>
            <a:avLst/>
            <a:gdLst/>
            <a:ahLst/>
            <a:rect l="l" t="t" r="r" b="b"/>
            <a:pathLst>
              <a:path w="1415" h="2010">
                <a:moveTo>
                  <a:pt x="23168" y="14660"/>
                </a:moveTo>
                <a:cubicBezTo>
                  <a:pt x="23168" y="14502"/>
                  <a:pt x="23190" y="14923"/>
                  <a:pt x="23192" y="15081"/>
                </a:cubicBezTo>
                <a:cubicBezTo>
                  <a:pt x="23192" y="15189"/>
                  <a:pt x="23192" y="15197"/>
                  <a:pt x="23192" y="15255"/>
                </a:cubicBezTo>
              </a:path>
              <a:path w="1415" h="2010">
                <a:moveTo>
                  <a:pt x="22845" y="15429"/>
                </a:moveTo>
                <a:cubicBezTo>
                  <a:pt x="23085" y="15386"/>
                  <a:pt x="23326" y="15350"/>
                  <a:pt x="23564" y="15304"/>
                </a:cubicBezTo>
              </a:path>
              <a:path w="1415" h="2010">
                <a:moveTo>
                  <a:pt x="23192" y="15553"/>
                </a:moveTo>
                <a:cubicBezTo>
                  <a:pt x="23158" y="15710"/>
                  <a:pt x="23130" y="15864"/>
                  <a:pt x="23118" y="16024"/>
                </a:cubicBezTo>
                <a:cubicBezTo>
                  <a:pt x="23269" y="16013"/>
                  <a:pt x="23472" y="16013"/>
                  <a:pt x="23589" y="15900"/>
                </a:cubicBezTo>
                <a:cubicBezTo>
                  <a:pt x="23692" y="15801"/>
                  <a:pt x="23411" y="15877"/>
                  <a:pt x="23316" y="16049"/>
                </a:cubicBezTo>
              </a:path>
              <a:path w="1415" h="2010">
                <a:moveTo>
                  <a:pt x="22845" y="16073"/>
                </a:moveTo>
                <a:cubicBezTo>
                  <a:pt x="23032" y="16188"/>
                  <a:pt x="23211" y="16251"/>
                  <a:pt x="23440" y="16222"/>
                </a:cubicBezTo>
                <a:cubicBezTo>
                  <a:pt x="23641" y="16197"/>
                  <a:pt x="24000" y="16092"/>
                  <a:pt x="24110" y="15900"/>
                </a:cubicBezTo>
                <a:cubicBezTo>
                  <a:pt x="24227" y="15695"/>
                  <a:pt x="24251" y="15436"/>
                  <a:pt x="24234" y="15205"/>
                </a:cubicBezTo>
                <a:cubicBezTo>
                  <a:pt x="24215" y="14946"/>
                  <a:pt x="24151" y="14768"/>
                  <a:pt x="24061" y="14536"/>
                </a:cubicBezTo>
                <a:cubicBezTo>
                  <a:pt x="23987" y="14346"/>
                  <a:pt x="23967" y="14264"/>
                  <a:pt x="23738" y="14238"/>
                </a:cubicBezTo>
                <a:cubicBezTo>
                  <a:pt x="23576" y="14219"/>
                  <a:pt x="23361" y="14225"/>
                  <a:pt x="23217" y="14312"/>
                </a:cubicBezTo>
                <a:cubicBezTo>
                  <a:pt x="22945" y="14475"/>
                  <a:pt x="22909" y="14847"/>
                  <a:pt x="22870" y="15131"/>
                </a:cubicBezTo>
                <a:cubicBezTo>
                  <a:pt x="22837" y="15371"/>
                  <a:pt x="22820" y="15608"/>
                  <a:pt x="22820" y="15850"/>
                </a:cubicBezTo>
                <a:cubicBezTo>
                  <a:pt x="22820" y="15950"/>
                  <a:pt x="22837" y="16040"/>
                  <a:pt x="22870" y="16123"/>
                </a:cubicBezTo>
                <a:cubicBezTo>
                  <a:pt x="22908" y="16219"/>
                  <a:pt x="22957" y="16264"/>
                  <a:pt x="23068" y="16247"/>
                </a:cubicBezTo>
                <a:cubicBezTo>
                  <a:pt x="23093" y="16239"/>
                  <a:pt x="23118" y="16230"/>
                  <a:pt x="23143" y="1622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pract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219320" y="2057400"/>
                <a:ext cx="990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714240" y="33764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371600" y="3429000"/>
                <a:ext cx="16765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017720" y="1554120"/>
            <a:ext cx="2911320" cy="1339920"/>
          </a:xfrm>
          <a:custGeom>
            <a:avLst/>
            <a:gdLst/>
            <a:ahLst/>
            <a:rect l="l" t="t" r="r" b="b"/>
            <a:pathLst>
              <a:path w="8087" h="3722">
                <a:moveTo>
                  <a:pt x="4291" y="6772"/>
                </a:moveTo>
                <a:cubicBezTo>
                  <a:pt x="4291" y="6874"/>
                  <a:pt x="4449" y="7052"/>
                  <a:pt x="4539" y="7169"/>
                </a:cubicBezTo>
                <a:cubicBezTo>
                  <a:pt x="4665" y="7333"/>
                  <a:pt x="4469" y="6925"/>
                  <a:pt x="4440" y="6846"/>
                </a:cubicBezTo>
                <a:cubicBezTo>
                  <a:pt x="4399" y="6765"/>
                  <a:pt x="4382" y="6752"/>
                  <a:pt x="4390" y="6697"/>
                </a:cubicBezTo>
                <a:cubicBezTo>
                  <a:pt x="4466" y="6886"/>
                  <a:pt x="4568" y="7010"/>
                  <a:pt x="4688" y="7169"/>
                </a:cubicBezTo>
                <a:cubicBezTo>
                  <a:pt x="4696" y="7185"/>
                  <a:pt x="4705" y="7202"/>
                  <a:pt x="4713" y="7218"/>
                </a:cubicBezTo>
                <a:cubicBezTo>
                  <a:pt x="4611" y="7054"/>
                  <a:pt x="4287" y="6577"/>
                  <a:pt x="4415" y="6722"/>
                </a:cubicBezTo>
                <a:cubicBezTo>
                  <a:pt x="4474" y="6789"/>
                  <a:pt x="4796" y="7183"/>
                  <a:pt x="4762" y="7119"/>
                </a:cubicBezTo>
                <a:cubicBezTo>
                  <a:pt x="4679" y="6962"/>
                  <a:pt x="4563" y="6793"/>
                  <a:pt x="4465" y="6648"/>
                </a:cubicBezTo>
                <a:cubicBezTo>
                  <a:pt x="4543" y="6741"/>
                  <a:pt x="4775" y="6951"/>
                  <a:pt x="4787" y="7069"/>
                </a:cubicBezTo>
                <a:cubicBezTo>
                  <a:pt x="4803" y="7222"/>
                  <a:pt x="4565" y="6864"/>
                  <a:pt x="4465" y="6747"/>
                </a:cubicBezTo>
                <a:cubicBezTo>
                  <a:pt x="4448" y="6730"/>
                  <a:pt x="4432" y="6714"/>
                  <a:pt x="4415" y="6697"/>
                </a:cubicBezTo>
              </a:path>
              <a:path w="8087" h="3722">
                <a:moveTo>
                  <a:pt x="3646" y="5655"/>
                </a:moveTo>
                <a:cubicBezTo>
                  <a:pt x="3707" y="5900"/>
                  <a:pt x="3826" y="6145"/>
                  <a:pt x="3870" y="6400"/>
                </a:cubicBezTo>
                <a:cubicBezTo>
                  <a:pt x="3870" y="6433"/>
                  <a:pt x="3870" y="6466"/>
                  <a:pt x="3870" y="6499"/>
                </a:cubicBezTo>
              </a:path>
              <a:path w="8087" h="3722">
                <a:moveTo>
                  <a:pt x="3994" y="5259"/>
                </a:moveTo>
                <a:cubicBezTo>
                  <a:pt x="3980" y="5401"/>
                  <a:pt x="3963" y="5540"/>
                  <a:pt x="3944" y="5680"/>
                </a:cubicBezTo>
                <a:cubicBezTo>
                  <a:pt x="3944" y="5688"/>
                  <a:pt x="3944" y="5697"/>
                  <a:pt x="3944" y="5705"/>
                </a:cubicBezTo>
              </a:path>
              <a:path w="8087" h="3722">
                <a:moveTo>
                  <a:pt x="5259" y="7243"/>
                </a:moveTo>
                <a:cubicBezTo>
                  <a:pt x="5431" y="7330"/>
                  <a:pt x="5553" y="7574"/>
                  <a:pt x="5680" y="7739"/>
                </a:cubicBezTo>
                <a:cubicBezTo>
                  <a:pt x="5747" y="7827"/>
                  <a:pt x="5796" y="7918"/>
                  <a:pt x="5854" y="8012"/>
                </a:cubicBezTo>
              </a:path>
              <a:path w="8087" h="3722">
                <a:moveTo>
                  <a:pt x="6226" y="7541"/>
                </a:moveTo>
                <a:cubicBezTo>
                  <a:pt x="6289" y="7498"/>
                  <a:pt x="6419" y="7427"/>
                  <a:pt x="6424" y="7565"/>
                </a:cubicBezTo>
                <a:cubicBezTo>
                  <a:pt x="6400" y="7666"/>
                  <a:pt x="6391" y="7700"/>
                  <a:pt x="6325" y="7739"/>
                </a:cubicBezTo>
                <a:cubicBezTo>
                  <a:pt x="6469" y="7696"/>
                  <a:pt x="6586" y="7752"/>
                  <a:pt x="6424" y="7913"/>
                </a:cubicBezTo>
                <a:cubicBezTo>
                  <a:pt x="6328" y="7960"/>
                  <a:pt x="6299" y="7977"/>
                  <a:pt x="6226" y="7962"/>
                </a:cubicBezTo>
              </a:path>
              <a:path w="8087" h="3722">
                <a:moveTo>
                  <a:pt x="4787" y="6772"/>
                </a:moveTo>
                <a:cubicBezTo>
                  <a:pt x="4567" y="6926"/>
                  <a:pt x="4344" y="7068"/>
                  <a:pt x="4093" y="7169"/>
                </a:cubicBezTo>
                <a:cubicBezTo>
                  <a:pt x="3889" y="7251"/>
                  <a:pt x="4425" y="6959"/>
                  <a:pt x="4614" y="6846"/>
                </a:cubicBezTo>
                <a:cubicBezTo>
                  <a:pt x="4680" y="6805"/>
                  <a:pt x="4746" y="6763"/>
                  <a:pt x="4812" y="6722"/>
                </a:cubicBezTo>
                <a:cubicBezTo>
                  <a:pt x="4912" y="6655"/>
                  <a:pt x="4912" y="6655"/>
                  <a:pt x="4738" y="6772"/>
                </a:cubicBezTo>
                <a:cubicBezTo>
                  <a:pt x="4625" y="6841"/>
                  <a:pt x="3783" y="7346"/>
                  <a:pt x="4316" y="6995"/>
                </a:cubicBezTo>
                <a:cubicBezTo>
                  <a:pt x="4487" y="6883"/>
                  <a:pt x="4930" y="6532"/>
                  <a:pt x="4762" y="6648"/>
                </a:cubicBezTo>
                <a:cubicBezTo>
                  <a:pt x="4606" y="6772"/>
                  <a:pt x="4536" y="6834"/>
                  <a:pt x="4440" y="6945"/>
                </a:cubicBezTo>
                <a:cubicBezTo>
                  <a:pt x="4187" y="7156"/>
                  <a:pt x="4114" y="7198"/>
                  <a:pt x="4440" y="6945"/>
                </a:cubicBezTo>
                <a:cubicBezTo>
                  <a:pt x="4807" y="6661"/>
                  <a:pt x="4804" y="6675"/>
                  <a:pt x="4465" y="6945"/>
                </a:cubicBezTo>
                <a:cubicBezTo>
                  <a:pt x="4134" y="7209"/>
                  <a:pt x="4686" y="6755"/>
                  <a:pt x="4762" y="6697"/>
                </a:cubicBezTo>
                <a:cubicBezTo>
                  <a:pt x="4812" y="6659"/>
                  <a:pt x="4482" y="6931"/>
                  <a:pt x="4440" y="7020"/>
                </a:cubicBezTo>
                <a:cubicBezTo>
                  <a:pt x="4465" y="7003"/>
                  <a:pt x="4489" y="6987"/>
                  <a:pt x="4514" y="6970"/>
                </a:cubicBezTo>
              </a:path>
              <a:path w="8087" h="3722">
                <a:moveTo>
                  <a:pt x="3473" y="7888"/>
                </a:moveTo>
                <a:cubicBezTo>
                  <a:pt x="3663" y="7668"/>
                  <a:pt x="3830" y="7540"/>
                  <a:pt x="4068" y="7367"/>
                </a:cubicBezTo>
              </a:path>
              <a:path w="8087" h="3722">
                <a:moveTo>
                  <a:pt x="2977" y="7441"/>
                </a:moveTo>
                <a:cubicBezTo>
                  <a:pt x="3059" y="7414"/>
                  <a:pt x="3091" y="7405"/>
                  <a:pt x="3150" y="7392"/>
                </a:cubicBezTo>
                <a:cubicBezTo>
                  <a:pt x="3248" y="7572"/>
                  <a:pt x="3207" y="7610"/>
                  <a:pt x="3076" y="7764"/>
                </a:cubicBezTo>
                <a:cubicBezTo>
                  <a:pt x="3182" y="7739"/>
                  <a:pt x="3386" y="7725"/>
                  <a:pt x="3274" y="7913"/>
                </a:cubicBezTo>
                <a:cubicBezTo>
                  <a:pt x="3166" y="8094"/>
                  <a:pt x="2968" y="8045"/>
                  <a:pt x="2828" y="7962"/>
                </a:cubicBezTo>
              </a:path>
              <a:path w="8087" h="3722">
                <a:moveTo>
                  <a:pt x="5556" y="6375"/>
                </a:moveTo>
                <a:cubicBezTo>
                  <a:pt x="5856" y="6190"/>
                  <a:pt x="5940" y="6135"/>
                  <a:pt x="6152" y="6052"/>
                </a:cubicBezTo>
              </a:path>
              <a:path w="8087" h="3722">
                <a:moveTo>
                  <a:pt x="6573" y="5631"/>
                </a:moveTo>
                <a:cubicBezTo>
                  <a:pt x="6549" y="5739"/>
                  <a:pt x="6527" y="5846"/>
                  <a:pt x="6499" y="5953"/>
                </a:cubicBezTo>
                <a:cubicBezTo>
                  <a:pt x="6609" y="5938"/>
                  <a:pt x="6712" y="5909"/>
                  <a:pt x="6821" y="5879"/>
                </a:cubicBezTo>
              </a:path>
              <a:path w="8087" h="3722">
                <a:moveTo>
                  <a:pt x="6921" y="5482"/>
                </a:moveTo>
                <a:cubicBezTo>
                  <a:pt x="6834" y="5856"/>
                  <a:pt x="6760" y="6214"/>
                  <a:pt x="6623" y="6573"/>
                </a:cubicBezTo>
              </a:path>
              <a:path w="8087" h="3722">
                <a:moveTo>
                  <a:pt x="7218" y="6548"/>
                </a:moveTo>
                <a:cubicBezTo>
                  <a:pt x="7384" y="6548"/>
                  <a:pt x="7450" y="6546"/>
                  <a:pt x="7565" y="6524"/>
                </a:cubicBezTo>
              </a:path>
              <a:path w="8087" h="3722">
                <a:moveTo>
                  <a:pt x="7417" y="6747"/>
                </a:moveTo>
                <a:cubicBezTo>
                  <a:pt x="7475" y="6722"/>
                  <a:pt x="7532" y="6697"/>
                  <a:pt x="7590" y="6672"/>
                </a:cubicBezTo>
              </a:path>
              <a:path w="8087" h="3722">
                <a:moveTo>
                  <a:pt x="8855" y="5383"/>
                </a:moveTo>
                <a:cubicBezTo>
                  <a:pt x="8855" y="5299"/>
                  <a:pt x="8758" y="5815"/>
                  <a:pt x="8756" y="5829"/>
                </a:cubicBezTo>
                <a:cubicBezTo>
                  <a:pt x="8756" y="5862"/>
                  <a:pt x="8756" y="5895"/>
                  <a:pt x="8756" y="5928"/>
                </a:cubicBezTo>
                <a:cubicBezTo>
                  <a:pt x="8914" y="5917"/>
                  <a:pt x="9067" y="5904"/>
                  <a:pt x="9227" y="5904"/>
                </a:cubicBezTo>
                <a:cubicBezTo>
                  <a:pt x="9244" y="5904"/>
                  <a:pt x="9260" y="5904"/>
                  <a:pt x="9277" y="5904"/>
                </a:cubicBezTo>
              </a:path>
              <a:path w="8087" h="3722">
                <a:moveTo>
                  <a:pt x="9327" y="5259"/>
                </a:moveTo>
                <a:cubicBezTo>
                  <a:pt x="9266" y="5652"/>
                  <a:pt x="9184" y="6036"/>
                  <a:pt x="9103" y="6424"/>
                </a:cubicBezTo>
              </a:path>
              <a:path w="8087" h="3722">
                <a:moveTo>
                  <a:pt x="8582" y="6648"/>
                </a:moveTo>
                <a:cubicBezTo>
                  <a:pt x="8908" y="6601"/>
                  <a:pt x="9247" y="6512"/>
                  <a:pt x="9575" y="6573"/>
                </a:cubicBezTo>
                <a:cubicBezTo>
                  <a:pt x="9583" y="6581"/>
                  <a:pt x="9591" y="6590"/>
                  <a:pt x="9599" y="6598"/>
                </a:cubicBezTo>
              </a:path>
              <a:path w="8087" h="3722">
                <a:moveTo>
                  <a:pt x="9178" y="7045"/>
                </a:moveTo>
                <a:cubicBezTo>
                  <a:pt x="9202" y="6891"/>
                  <a:pt x="9175" y="6845"/>
                  <a:pt x="9054" y="6747"/>
                </a:cubicBezTo>
                <a:cubicBezTo>
                  <a:pt x="8876" y="6803"/>
                  <a:pt x="8695" y="6973"/>
                  <a:pt x="8880" y="7193"/>
                </a:cubicBezTo>
                <a:cubicBezTo>
                  <a:pt x="9041" y="7385"/>
                  <a:pt x="9183" y="6962"/>
                  <a:pt x="9203" y="6896"/>
                </a:cubicBezTo>
                <a:cubicBezTo>
                  <a:pt x="9203" y="6743"/>
                  <a:pt x="9108" y="7456"/>
                  <a:pt x="9103" y="7491"/>
                </a:cubicBezTo>
                <a:cubicBezTo>
                  <a:pt x="9095" y="7549"/>
                  <a:pt x="9087" y="7607"/>
                  <a:pt x="9079" y="7665"/>
                </a:cubicBezTo>
              </a:path>
              <a:path w="8087" h="3722">
                <a:moveTo>
                  <a:pt x="8285" y="7665"/>
                </a:moveTo>
                <a:cubicBezTo>
                  <a:pt x="8633" y="7883"/>
                  <a:pt x="8971" y="8044"/>
                  <a:pt x="9401" y="7962"/>
                </a:cubicBezTo>
                <a:cubicBezTo>
                  <a:pt x="10010" y="7846"/>
                  <a:pt x="10346" y="7204"/>
                  <a:pt x="10567" y="6697"/>
                </a:cubicBezTo>
                <a:cubicBezTo>
                  <a:pt x="10855" y="6035"/>
                  <a:pt x="11157" y="5209"/>
                  <a:pt x="10592" y="4614"/>
                </a:cubicBezTo>
                <a:cubicBezTo>
                  <a:pt x="10229" y="4231"/>
                  <a:pt x="9618" y="4236"/>
                  <a:pt x="9203" y="4514"/>
                </a:cubicBezTo>
                <a:cubicBezTo>
                  <a:pt x="8547" y="4953"/>
                  <a:pt x="8271" y="5875"/>
                  <a:pt x="8235" y="6623"/>
                </a:cubicBezTo>
                <a:cubicBezTo>
                  <a:pt x="8282" y="7118"/>
                  <a:pt x="8287" y="7267"/>
                  <a:pt x="8483" y="754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25760" y="3402000"/>
            <a:ext cx="115560" cy="108000"/>
          </a:xfrm>
          <a:custGeom>
            <a:avLst/>
            <a:gdLst/>
            <a:ahLst/>
            <a:rect l="l" t="t" r="r" b="b"/>
            <a:pathLst>
              <a:path w="324" h="298">
                <a:moveTo>
                  <a:pt x="4713" y="9451"/>
                </a:moveTo>
                <a:cubicBezTo>
                  <a:pt x="4689" y="9552"/>
                  <a:pt x="4670" y="9645"/>
                  <a:pt x="4663" y="9748"/>
                </a:cubicBezTo>
              </a:path>
              <a:path w="324" h="298">
                <a:moveTo>
                  <a:pt x="4514" y="9624"/>
                </a:moveTo>
                <a:cubicBezTo>
                  <a:pt x="4597" y="9624"/>
                  <a:pt x="4679" y="9624"/>
                  <a:pt x="4762" y="9624"/>
                </a:cubicBezTo>
              </a:path>
              <a:path w="324" h="298">
                <a:moveTo>
                  <a:pt x="4738" y="9674"/>
                </a:moveTo>
                <a:cubicBezTo>
                  <a:pt x="4771" y="9674"/>
                  <a:pt x="4804" y="9674"/>
                  <a:pt x="4837" y="967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89120" y="3473280"/>
            <a:ext cx="63720" cy="108000"/>
          </a:xfrm>
          <a:custGeom>
            <a:avLst/>
            <a:gdLst/>
            <a:ahLst/>
            <a:rect l="l" t="t" r="r" b="b"/>
            <a:pathLst>
              <a:path w="175" h="299">
                <a:moveTo>
                  <a:pt x="7193" y="9649"/>
                </a:moveTo>
                <a:cubicBezTo>
                  <a:pt x="7262" y="9718"/>
                  <a:pt x="7292" y="9764"/>
                  <a:pt x="7342" y="9847"/>
                </a:cubicBezTo>
              </a:path>
              <a:path w="175" h="299">
                <a:moveTo>
                  <a:pt x="7268" y="9947"/>
                </a:moveTo>
                <a:cubicBezTo>
                  <a:pt x="7301" y="9922"/>
                  <a:pt x="7334" y="9897"/>
                  <a:pt x="7367" y="987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54240" y="3089160"/>
            <a:ext cx="438120" cy="590760"/>
          </a:xfrm>
          <a:custGeom>
            <a:avLst/>
            <a:gdLst/>
            <a:ahLst/>
            <a:rect l="l" t="t" r="r" b="b"/>
            <a:pathLst>
              <a:path w="1217" h="1639">
                <a:moveTo>
                  <a:pt x="8483" y="8880"/>
                </a:moveTo>
                <a:cubicBezTo>
                  <a:pt x="8495" y="8763"/>
                  <a:pt x="8495" y="8767"/>
                  <a:pt x="8582" y="8706"/>
                </a:cubicBezTo>
                <a:cubicBezTo>
                  <a:pt x="8705" y="8794"/>
                  <a:pt x="8830" y="8944"/>
                  <a:pt x="8682" y="9103"/>
                </a:cubicBezTo>
                <a:cubicBezTo>
                  <a:pt x="8584" y="9152"/>
                  <a:pt x="8552" y="9170"/>
                  <a:pt x="8508" y="9079"/>
                </a:cubicBezTo>
                <a:cubicBezTo>
                  <a:pt x="8554" y="8970"/>
                  <a:pt x="8680" y="8986"/>
                  <a:pt x="8806" y="8979"/>
                </a:cubicBezTo>
              </a:path>
              <a:path w="1217" h="1639">
                <a:moveTo>
                  <a:pt x="8756" y="8582"/>
                </a:moveTo>
                <a:cubicBezTo>
                  <a:pt x="8717" y="8699"/>
                  <a:pt x="8685" y="8718"/>
                  <a:pt x="8731" y="8781"/>
                </a:cubicBezTo>
                <a:cubicBezTo>
                  <a:pt x="8913" y="8790"/>
                  <a:pt x="9052" y="8765"/>
                  <a:pt x="9004" y="8954"/>
                </a:cubicBezTo>
                <a:cubicBezTo>
                  <a:pt x="8807" y="8955"/>
                  <a:pt x="8880" y="8761"/>
                  <a:pt x="8880" y="8582"/>
                </a:cubicBezTo>
              </a:path>
              <a:path w="1217" h="1639">
                <a:moveTo>
                  <a:pt x="8706" y="9475"/>
                </a:moveTo>
                <a:cubicBezTo>
                  <a:pt x="8767" y="9556"/>
                  <a:pt x="8781" y="9569"/>
                  <a:pt x="8806" y="9624"/>
                </a:cubicBezTo>
              </a:path>
              <a:path w="1217" h="1639">
                <a:moveTo>
                  <a:pt x="8706" y="9575"/>
                </a:moveTo>
                <a:cubicBezTo>
                  <a:pt x="8731" y="9534"/>
                  <a:pt x="8756" y="9492"/>
                  <a:pt x="8781" y="9451"/>
                </a:cubicBezTo>
              </a:path>
              <a:path w="1217" h="1639">
                <a:moveTo>
                  <a:pt x="8954" y="9203"/>
                </a:moveTo>
                <a:cubicBezTo>
                  <a:pt x="9012" y="9307"/>
                  <a:pt x="9055" y="9426"/>
                  <a:pt x="9128" y="9500"/>
                </a:cubicBezTo>
                <a:cubicBezTo>
                  <a:pt x="9194" y="9416"/>
                  <a:pt x="9236" y="9177"/>
                  <a:pt x="9203" y="9252"/>
                </a:cubicBezTo>
                <a:cubicBezTo>
                  <a:pt x="9180" y="9367"/>
                  <a:pt x="9171" y="9399"/>
                  <a:pt x="9178" y="9475"/>
                </a:cubicBezTo>
              </a:path>
              <a:path w="1217" h="1639">
                <a:moveTo>
                  <a:pt x="8905" y="9847"/>
                </a:moveTo>
                <a:cubicBezTo>
                  <a:pt x="9104" y="9608"/>
                  <a:pt x="9302" y="9368"/>
                  <a:pt x="9500" y="9128"/>
                </a:cubicBezTo>
              </a:path>
              <a:path w="1217" h="1639">
                <a:moveTo>
                  <a:pt x="8979" y="9947"/>
                </a:moveTo>
                <a:cubicBezTo>
                  <a:pt x="9015" y="9901"/>
                  <a:pt x="9201" y="9723"/>
                  <a:pt x="9227" y="9897"/>
                </a:cubicBezTo>
                <a:cubicBezTo>
                  <a:pt x="9202" y="9999"/>
                  <a:pt x="9193" y="10035"/>
                  <a:pt x="9153" y="10096"/>
                </a:cubicBezTo>
                <a:cubicBezTo>
                  <a:pt x="9159" y="10087"/>
                  <a:pt x="9327" y="9886"/>
                  <a:pt x="9327" y="10021"/>
                </a:cubicBezTo>
                <a:cubicBezTo>
                  <a:pt x="9327" y="10164"/>
                  <a:pt x="9230" y="10189"/>
                  <a:pt x="9128" y="10220"/>
                </a:cubicBezTo>
              </a:path>
              <a:path w="1217" h="1639">
                <a:moveTo>
                  <a:pt x="9376" y="9525"/>
                </a:moveTo>
                <a:cubicBezTo>
                  <a:pt x="9334" y="9608"/>
                  <a:pt x="9364" y="9675"/>
                  <a:pt x="9376" y="9773"/>
                </a:cubicBezTo>
                <a:cubicBezTo>
                  <a:pt x="9470" y="9710"/>
                  <a:pt x="9523" y="9660"/>
                  <a:pt x="9599" y="9575"/>
                </a:cubicBezTo>
              </a:path>
              <a:path w="1217" h="1639">
                <a:moveTo>
                  <a:pt x="9500" y="9426"/>
                </a:moveTo>
                <a:cubicBezTo>
                  <a:pt x="9492" y="9418"/>
                  <a:pt x="9483" y="9409"/>
                  <a:pt x="9475" y="9401"/>
                </a:cubicBezTo>
              </a:path>
              <a:path w="1217" h="1639">
                <a:moveTo>
                  <a:pt x="9500" y="9451"/>
                </a:moveTo>
                <a:cubicBezTo>
                  <a:pt x="9431" y="9382"/>
                  <a:pt x="9625" y="9644"/>
                  <a:pt x="9649" y="9674"/>
                </a:cubicBezTo>
                <a:cubicBezTo>
                  <a:pt x="9666" y="9690"/>
                  <a:pt x="9682" y="9707"/>
                  <a:pt x="9699" y="972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4680" y="4125960"/>
            <a:ext cx="750600" cy="465120"/>
          </a:xfrm>
          <a:custGeom>
            <a:avLst/>
            <a:gdLst/>
            <a:ahLst/>
            <a:rect l="l" t="t" r="r" b="b"/>
            <a:pathLst>
              <a:path w="2085" h="1291">
                <a:moveTo>
                  <a:pt x="2456" y="12254"/>
                </a:moveTo>
                <a:cubicBezTo>
                  <a:pt x="2548" y="12180"/>
                  <a:pt x="2560" y="12177"/>
                  <a:pt x="2604" y="12129"/>
                </a:cubicBezTo>
                <a:cubicBezTo>
                  <a:pt x="2686" y="12253"/>
                  <a:pt x="2631" y="12254"/>
                  <a:pt x="2753" y="12353"/>
                </a:cubicBezTo>
                <a:cubicBezTo>
                  <a:pt x="2770" y="12369"/>
                  <a:pt x="2786" y="12386"/>
                  <a:pt x="2803" y="12402"/>
                </a:cubicBezTo>
                <a:cubicBezTo>
                  <a:pt x="2691" y="12581"/>
                  <a:pt x="2646" y="12630"/>
                  <a:pt x="2431" y="12601"/>
                </a:cubicBezTo>
              </a:path>
              <a:path w="2085" h="1291">
                <a:moveTo>
                  <a:pt x="2902" y="12129"/>
                </a:moveTo>
                <a:cubicBezTo>
                  <a:pt x="2902" y="12175"/>
                  <a:pt x="2862" y="12353"/>
                  <a:pt x="2952" y="12353"/>
                </a:cubicBezTo>
                <a:cubicBezTo>
                  <a:pt x="2985" y="12345"/>
                  <a:pt x="3018" y="12336"/>
                  <a:pt x="3051" y="12328"/>
                </a:cubicBezTo>
              </a:path>
              <a:path w="2085" h="1291">
                <a:moveTo>
                  <a:pt x="3175" y="12005"/>
                </a:moveTo>
                <a:cubicBezTo>
                  <a:pt x="3121" y="12193"/>
                  <a:pt x="3103" y="12265"/>
                  <a:pt x="3101" y="12402"/>
                </a:cubicBezTo>
              </a:path>
              <a:path w="2085" h="1291">
                <a:moveTo>
                  <a:pt x="2356" y="12750"/>
                </a:moveTo>
                <a:cubicBezTo>
                  <a:pt x="2306" y="12532"/>
                  <a:pt x="2281" y="12303"/>
                  <a:pt x="2257" y="12080"/>
                </a:cubicBezTo>
                <a:cubicBezTo>
                  <a:pt x="2257" y="12063"/>
                  <a:pt x="2257" y="12047"/>
                  <a:pt x="2257" y="12030"/>
                </a:cubicBezTo>
                <a:cubicBezTo>
                  <a:pt x="2581" y="12030"/>
                  <a:pt x="2901" y="12028"/>
                  <a:pt x="3225" y="12005"/>
                </a:cubicBezTo>
                <a:cubicBezTo>
                  <a:pt x="3441" y="11986"/>
                  <a:pt x="3476" y="11992"/>
                  <a:pt x="3597" y="11956"/>
                </a:cubicBezTo>
              </a:path>
              <a:path w="2085" h="1291">
                <a:moveTo>
                  <a:pt x="1786" y="12328"/>
                </a:moveTo>
                <a:cubicBezTo>
                  <a:pt x="1969" y="12146"/>
                  <a:pt x="1919" y="12529"/>
                  <a:pt x="1811" y="12650"/>
                </a:cubicBezTo>
                <a:cubicBezTo>
                  <a:pt x="1688" y="12788"/>
                  <a:pt x="1619" y="12724"/>
                  <a:pt x="1513" y="12650"/>
                </a:cubicBezTo>
                <a:cubicBezTo>
                  <a:pt x="1693" y="12626"/>
                  <a:pt x="1835" y="12617"/>
                  <a:pt x="2009" y="12675"/>
                </a:cubicBezTo>
              </a:path>
              <a:path w="2085" h="1291">
                <a:moveTo>
                  <a:pt x="2580" y="11584"/>
                </a:moveTo>
                <a:cubicBezTo>
                  <a:pt x="2563" y="11576"/>
                  <a:pt x="2547" y="11567"/>
                  <a:pt x="2530" y="11559"/>
                </a:cubicBezTo>
                <a:cubicBezTo>
                  <a:pt x="2530" y="11691"/>
                  <a:pt x="2530" y="11824"/>
                  <a:pt x="2530" y="11956"/>
                </a:cubicBezTo>
              </a:path>
              <a:path w="2085" h="1291">
                <a:moveTo>
                  <a:pt x="2704" y="11485"/>
                </a:moveTo>
                <a:cubicBezTo>
                  <a:pt x="2766" y="11485"/>
                  <a:pt x="2802" y="11473"/>
                  <a:pt x="2853" y="11460"/>
                </a:cubicBezTo>
                <a:cubicBezTo>
                  <a:pt x="2946" y="11538"/>
                  <a:pt x="2889" y="11710"/>
                  <a:pt x="2877" y="11857"/>
                </a:cubicBezTo>
                <a:cubicBezTo>
                  <a:pt x="2877" y="11882"/>
                  <a:pt x="2877" y="11906"/>
                  <a:pt x="2877" y="11931"/>
                </a:cubicBezTo>
              </a:path>
              <a:path w="2085" h="1291">
                <a:moveTo>
                  <a:pt x="3026" y="12353"/>
                </a:moveTo>
                <a:cubicBezTo>
                  <a:pt x="3083" y="12361"/>
                  <a:pt x="3139" y="12345"/>
                  <a:pt x="3150" y="12402"/>
                </a:cubicBezTo>
                <a:cubicBezTo>
                  <a:pt x="3162" y="12463"/>
                  <a:pt x="3150" y="12539"/>
                  <a:pt x="3150" y="1260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09840" y="4010040"/>
            <a:ext cx="125280" cy="15084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4341" y="11336"/>
                </a:moveTo>
                <a:cubicBezTo>
                  <a:pt x="4394" y="11282"/>
                  <a:pt x="4437" y="11426"/>
                  <a:pt x="4490" y="11485"/>
                </a:cubicBezTo>
                <a:cubicBezTo>
                  <a:pt x="4506" y="11501"/>
                  <a:pt x="4523" y="11518"/>
                  <a:pt x="4539" y="11534"/>
                </a:cubicBezTo>
              </a:path>
              <a:path w="348" h="423">
                <a:moveTo>
                  <a:pt x="4539" y="11137"/>
                </a:moveTo>
                <a:cubicBezTo>
                  <a:pt x="4470" y="11275"/>
                  <a:pt x="4413" y="11429"/>
                  <a:pt x="4341" y="11559"/>
                </a:cubicBezTo>
              </a:path>
              <a:path w="348" h="423">
                <a:moveTo>
                  <a:pt x="4192" y="11311"/>
                </a:moveTo>
                <a:cubicBezTo>
                  <a:pt x="4313" y="11259"/>
                  <a:pt x="4336" y="11372"/>
                  <a:pt x="4415" y="1146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280" y="3375000"/>
            <a:ext cx="563760" cy="947880"/>
          </a:xfrm>
          <a:custGeom>
            <a:avLst/>
            <a:gdLst/>
            <a:ahLst/>
            <a:rect l="l" t="t" r="r" b="b"/>
            <a:pathLst>
              <a:path w="1564" h="2630">
                <a:moveTo>
                  <a:pt x="670" y="9451"/>
                </a:moveTo>
                <a:cubicBezTo>
                  <a:pt x="670" y="9505"/>
                  <a:pt x="518" y="9741"/>
                  <a:pt x="422" y="9872"/>
                </a:cubicBezTo>
                <a:cubicBezTo>
                  <a:pt x="572" y="9860"/>
                  <a:pt x="699" y="9836"/>
                  <a:pt x="843" y="9872"/>
                </a:cubicBezTo>
              </a:path>
              <a:path w="1564" h="2630">
                <a:moveTo>
                  <a:pt x="1091" y="9475"/>
                </a:moveTo>
                <a:cubicBezTo>
                  <a:pt x="968" y="9722"/>
                  <a:pt x="840" y="9952"/>
                  <a:pt x="670" y="10170"/>
                </a:cubicBezTo>
              </a:path>
              <a:path w="1564" h="2630">
                <a:moveTo>
                  <a:pt x="1315" y="9376"/>
                </a:moveTo>
                <a:cubicBezTo>
                  <a:pt x="1216" y="9475"/>
                  <a:pt x="1146" y="9598"/>
                  <a:pt x="1067" y="9723"/>
                </a:cubicBezTo>
                <a:cubicBezTo>
                  <a:pt x="1152" y="9793"/>
                  <a:pt x="1375" y="9880"/>
                  <a:pt x="1290" y="10021"/>
                </a:cubicBezTo>
                <a:cubicBezTo>
                  <a:pt x="1194" y="10117"/>
                  <a:pt x="1166" y="10149"/>
                  <a:pt x="1067" y="10145"/>
                </a:cubicBezTo>
                <a:cubicBezTo>
                  <a:pt x="985" y="9983"/>
                  <a:pt x="1154" y="9815"/>
                  <a:pt x="1240" y="9649"/>
                </a:cubicBezTo>
                <a:cubicBezTo>
                  <a:pt x="1277" y="9576"/>
                  <a:pt x="1294" y="9571"/>
                  <a:pt x="1290" y="9525"/>
                </a:cubicBezTo>
              </a:path>
              <a:path w="1564" h="2630">
                <a:moveTo>
                  <a:pt x="298" y="10716"/>
                </a:moveTo>
                <a:cubicBezTo>
                  <a:pt x="290" y="10875"/>
                  <a:pt x="259" y="11029"/>
                  <a:pt x="248" y="11187"/>
                </a:cubicBezTo>
              </a:path>
              <a:path w="1564" h="2630">
                <a:moveTo>
                  <a:pt x="198" y="10964"/>
                </a:moveTo>
                <a:cubicBezTo>
                  <a:pt x="317" y="10958"/>
                  <a:pt x="406" y="10943"/>
                  <a:pt x="521" y="10914"/>
                </a:cubicBezTo>
              </a:path>
              <a:path w="1564" h="2630">
                <a:moveTo>
                  <a:pt x="1141" y="10319"/>
                </a:moveTo>
                <a:cubicBezTo>
                  <a:pt x="1239" y="10319"/>
                  <a:pt x="1318" y="10312"/>
                  <a:pt x="1414" y="10294"/>
                </a:cubicBezTo>
                <a:cubicBezTo>
                  <a:pt x="1388" y="10486"/>
                  <a:pt x="1313" y="10633"/>
                  <a:pt x="1240" y="10815"/>
                </a:cubicBezTo>
              </a:path>
              <a:path w="1564" h="2630">
                <a:moveTo>
                  <a:pt x="397" y="11212"/>
                </a:moveTo>
                <a:cubicBezTo>
                  <a:pt x="630" y="11165"/>
                  <a:pt x="876" y="11164"/>
                  <a:pt x="1116" y="11162"/>
                </a:cubicBezTo>
                <a:cubicBezTo>
                  <a:pt x="1335" y="11160"/>
                  <a:pt x="1546" y="11157"/>
                  <a:pt x="1761" y="11187"/>
                </a:cubicBezTo>
              </a:path>
              <a:path w="1564" h="2630">
                <a:moveTo>
                  <a:pt x="843" y="11385"/>
                </a:moveTo>
                <a:cubicBezTo>
                  <a:pt x="798" y="11402"/>
                  <a:pt x="577" y="11378"/>
                  <a:pt x="546" y="11410"/>
                </a:cubicBezTo>
                <a:cubicBezTo>
                  <a:pt x="480" y="11477"/>
                  <a:pt x="500" y="11652"/>
                  <a:pt x="496" y="11733"/>
                </a:cubicBezTo>
                <a:cubicBezTo>
                  <a:pt x="634" y="11683"/>
                  <a:pt x="801" y="11579"/>
                  <a:pt x="918" y="11733"/>
                </a:cubicBezTo>
                <a:cubicBezTo>
                  <a:pt x="1085" y="11953"/>
                  <a:pt x="747" y="12012"/>
                  <a:pt x="620" y="11981"/>
                </a:cubicBezTo>
                <a:cubicBezTo>
                  <a:pt x="587" y="11964"/>
                  <a:pt x="554" y="11948"/>
                  <a:pt x="521" y="11931"/>
                </a:cubicBezTo>
              </a:path>
              <a:path w="1564" h="2630">
                <a:moveTo>
                  <a:pt x="1389" y="11261"/>
                </a:moveTo>
                <a:cubicBezTo>
                  <a:pt x="1270" y="11297"/>
                  <a:pt x="1103" y="11272"/>
                  <a:pt x="1042" y="11385"/>
                </a:cubicBezTo>
                <a:cubicBezTo>
                  <a:pt x="994" y="11473"/>
                  <a:pt x="979" y="11516"/>
                  <a:pt x="1067" y="11584"/>
                </a:cubicBezTo>
                <a:cubicBezTo>
                  <a:pt x="1175" y="11667"/>
                  <a:pt x="1237" y="11502"/>
                  <a:pt x="1339" y="11509"/>
                </a:cubicBezTo>
                <a:cubicBezTo>
                  <a:pt x="1364" y="11526"/>
                  <a:pt x="1389" y="11542"/>
                  <a:pt x="1414" y="11559"/>
                </a:cubicBezTo>
                <a:cubicBezTo>
                  <a:pt x="1454" y="11730"/>
                  <a:pt x="1440" y="11797"/>
                  <a:pt x="1265" y="11857"/>
                </a:cubicBezTo>
                <a:cubicBezTo>
                  <a:pt x="1173" y="11879"/>
                  <a:pt x="1148" y="11890"/>
                  <a:pt x="1091" y="1185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24760" y="1500120"/>
            <a:ext cx="615600" cy="1000080"/>
          </a:xfrm>
          <a:custGeom>
            <a:avLst/>
            <a:gdLst/>
            <a:ahLst/>
            <a:rect l="l" t="t" r="r" b="b"/>
            <a:pathLst>
              <a:path w="1712" h="2779">
                <a:moveTo>
                  <a:pt x="17810" y="4242"/>
                </a:moveTo>
                <a:cubicBezTo>
                  <a:pt x="17853" y="4479"/>
                  <a:pt x="17877" y="4696"/>
                  <a:pt x="17884" y="4936"/>
                </a:cubicBezTo>
              </a:path>
              <a:path w="1712" h="2779">
                <a:moveTo>
                  <a:pt x="18132" y="4341"/>
                </a:moveTo>
                <a:cubicBezTo>
                  <a:pt x="18132" y="4482"/>
                  <a:pt x="18133" y="4525"/>
                  <a:pt x="18107" y="4614"/>
                </a:cubicBezTo>
                <a:cubicBezTo>
                  <a:pt x="18238" y="4483"/>
                  <a:pt x="18249" y="4497"/>
                  <a:pt x="18430" y="4514"/>
                </a:cubicBezTo>
              </a:path>
              <a:path w="1712" h="2779">
                <a:moveTo>
                  <a:pt x="18380" y="4167"/>
                </a:moveTo>
                <a:cubicBezTo>
                  <a:pt x="18365" y="4401"/>
                  <a:pt x="18355" y="4628"/>
                  <a:pt x="18355" y="4862"/>
                </a:cubicBezTo>
              </a:path>
              <a:path w="1712" h="2779">
                <a:moveTo>
                  <a:pt x="17289" y="5308"/>
                </a:moveTo>
                <a:cubicBezTo>
                  <a:pt x="17411" y="5444"/>
                  <a:pt x="17497" y="5571"/>
                  <a:pt x="17587" y="5730"/>
                </a:cubicBezTo>
              </a:path>
              <a:path w="1712" h="2779">
                <a:moveTo>
                  <a:pt x="17686" y="5209"/>
                </a:moveTo>
                <a:cubicBezTo>
                  <a:pt x="17602" y="5357"/>
                  <a:pt x="17522" y="5507"/>
                  <a:pt x="17438" y="5655"/>
                </a:cubicBezTo>
              </a:path>
              <a:path w="1712" h="2779">
                <a:moveTo>
                  <a:pt x="18355" y="5209"/>
                </a:moveTo>
                <a:cubicBezTo>
                  <a:pt x="18281" y="5365"/>
                  <a:pt x="18179" y="5596"/>
                  <a:pt x="18231" y="5779"/>
                </a:cubicBezTo>
                <a:cubicBezTo>
                  <a:pt x="18248" y="5796"/>
                  <a:pt x="18264" y="5812"/>
                  <a:pt x="18281" y="5829"/>
                </a:cubicBezTo>
                <a:cubicBezTo>
                  <a:pt x="18424" y="5730"/>
                  <a:pt x="18520" y="5659"/>
                  <a:pt x="18504" y="5482"/>
                </a:cubicBezTo>
                <a:cubicBezTo>
                  <a:pt x="18407" y="5530"/>
                  <a:pt x="18370" y="5703"/>
                  <a:pt x="18331" y="5804"/>
                </a:cubicBezTo>
              </a:path>
              <a:path w="1712" h="2779">
                <a:moveTo>
                  <a:pt x="17289" y="5953"/>
                </a:moveTo>
                <a:cubicBezTo>
                  <a:pt x="17653" y="5935"/>
                  <a:pt x="18014" y="5928"/>
                  <a:pt x="18380" y="5928"/>
                </a:cubicBezTo>
                <a:cubicBezTo>
                  <a:pt x="18573" y="5928"/>
                  <a:pt x="18814" y="5896"/>
                  <a:pt x="19000" y="5953"/>
                </a:cubicBezTo>
              </a:path>
              <a:path w="1712" h="2779">
                <a:moveTo>
                  <a:pt x="17909" y="6251"/>
                </a:moveTo>
                <a:cubicBezTo>
                  <a:pt x="17947" y="6117"/>
                  <a:pt x="17761" y="6140"/>
                  <a:pt x="17661" y="6176"/>
                </a:cubicBezTo>
                <a:cubicBezTo>
                  <a:pt x="17553" y="6241"/>
                  <a:pt x="17527" y="6256"/>
                  <a:pt x="17462" y="6300"/>
                </a:cubicBezTo>
                <a:cubicBezTo>
                  <a:pt x="17537" y="6427"/>
                  <a:pt x="17767" y="6587"/>
                  <a:pt x="17785" y="6722"/>
                </a:cubicBezTo>
                <a:cubicBezTo>
                  <a:pt x="17763" y="6856"/>
                  <a:pt x="17765" y="6894"/>
                  <a:pt x="17686" y="6945"/>
                </a:cubicBezTo>
                <a:cubicBezTo>
                  <a:pt x="17612" y="6769"/>
                  <a:pt x="17724" y="6594"/>
                  <a:pt x="17835" y="6424"/>
                </a:cubicBezTo>
                <a:cubicBezTo>
                  <a:pt x="17851" y="6408"/>
                  <a:pt x="17868" y="6391"/>
                  <a:pt x="17884" y="6375"/>
                </a:cubicBezTo>
              </a:path>
              <a:path w="1712" h="2779">
                <a:moveTo>
                  <a:pt x="18083" y="6226"/>
                </a:moveTo>
                <a:cubicBezTo>
                  <a:pt x="18089" y="6333"/>
                  <a:pt x="18063" y="6486"/>
                  <a:pt x="18207" y="6474"/>
                </a:cubicBezTo>
                <a:cubicBezTo>
                  <a:pt x="18248" y="6466"/>
                  <a:pt x="18290" y="6457"/>
                  <a:pt x="18331" y="6449"/>
                </a:cubicBezTo>
              </a:path>
              <a:path w="1712" h="2779">
                <a:moveTo>
                  <a:pt x="18355" y="5953"/>
                </a:moveTo>
                <a:cubicBezTo>
                  <a:pt x="18342" y="6202"/>
                  <a:pt x="18331" y="6447"/>
                  <a:pt x="18331" y="669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75200" y="3840120"/>
            <a:ext cx="1081080" cy="446040"/>
          </a:xfrm>
          <a:custGeom>
            <a:avLst/>
            <a:gdLst/>
            <a:ahLst/>
            <a:rect l="l" t="t" r="r" b="b"/>
            <a:pathLst>
              <a:path w="3003" h="1241">
                <a:moveTo>
                  <a:pt x="16321" y="10716"/>
                </a:moveTo>
                <a:cubicBezTo>
                  <a:pt x="16517" y="10647"/>
                  <a:pt x="16636" y="10701"/>
                  <a:pt x="16842" y="10716"/>
                </a:cubicBezTo>
                <a:cubicBezTo>
                  <a:pt x="17073" y="10733"/>
                  <a:pt x="17306" y="10775"/>
                  <a:pt x="17537" y="10790"/>
                </a:cubicBezTo>
                <a:cubicBezTo>
                  <a:pt x="17787" y="10806"/>
                  <a:pt x="18034" y="10777"/>
                  <a:pt x="18281" y="10765"/>
                </a:cubicBezTo>
                <a:cubicBezTo>
                  <a:pt x="18513" y="10754"/>
                  <a:pt x="18745" y="10729"/>
                  <a:pt x="18976" y="10716"/>
                </a:cubicBezTo>
                <a:cubicBezTo>
                  <a:pt x="19091" y="10709"/>
                  <a:pt x="19208" y="10716"/>
                  <a:pt x="19323" y="10716"/>
                </a:cubicBezTo>
              </a:path>
              <a:path w="3003" h="1241">
                <a:moveTo>
                  <a:pt x="17462" y="11187"/>
                </a:moveTo>
                <a:cubicBezTo>
                  <a:pt x="17532" y="11094"/>
                  <a:pt x="17530" y="11034"/>
                  <a:pt x="17363" y="11038"/>
                </a:cubicBezTo>
                <a:cubicBezTo>
                  <a:pt x="17183" y="11042"/>
                  <a:pt x="16927" y="11277"/>
                  <a:pt x="17090" y="11460"/>
                </a:cubicBezTo>
                <a:cubicBezTo>
                  <a:pt x="17199" y="11582"/>
                  <a:pt x="17584" y="11620"/>
                  <a:pt x="17338" y="11857"/>
                </a:cubicBezTo>
                <a:cubicBezTo>
                  <a:pt x="17305" y="11873"/>
                  <a:pt x="17272" y="11890"/>
                  <a:pt x="17239" y="11906"/>
                </a:cubicBezTo>
                <a:cubicBezTo>
                  <a:pt x="17223" y="11645"/>
                  <a:pt x="17352" y="11472"/>
                  <a:pt x="17462" y="11237"/>
                </a:cubicBezTo>
                <a:cubicBezTo>
                  <a:pt x="17470" y="11212"/>
                  <a:pt x="17479" y="11187"/>
                  <a:pt x="17487" y="11162"/>
                </a:cubicBezTo>
              </a:path>
              <a:path w="3003" h="1241">
                <a:moveTo>
                  <a:pt x="17686" y="11187"/>
                </a:moveTo>
                <a:cubicBezTo>
                  <a:pt x="17698" y="11308"/>
                  <a:pt x="17695" y="11417"/>
                  <a:pt x="17711" y="11534"/>
                </a:cubicBezTo>
                <a:cubicBezTo>
                  <a:pt x="17860" y="11504"/>
                  <a:pt x="17932" y="11451"/>
                  <a:pt x="18058" y="11361"/>
                </a:cubicBezTo>
              </a:path>
              <a:path w="3003" h="1241">
                <a:moveTo>
                  <a:pt x="17934" y="10840"/>
                </a:moveTo>
                <a:cubicBezTo>
                  <a:pt x="17856" y="11165"/>
                  <a:pt x="17867" y="11478"/>
                  <a:pt x="17835" y="11807"/>
                </a:cubicBezTo>
                <a:cubicBezTo>
                  <a:pt x="17827" y="11840"/>
                  <a:pt x="17818" y="11873"/>
                  <a:pt x="17810" y="1190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30840" y="3187800"/>
            <a:ext cx="393480" cy="554040"/>
          </a:xfrm>
          <a:custGeom>
            <a:avLst/>
            <a:gdLst/>
            <a:ahLst/>
            <a:rect l="l" t="t" r="r" b="b"/>
            <a:pathLst>
              <a:path w="1093" h="1539">
                <a:moveTo>
                  <a:pt x="13419" y="10393"/>
                </a:moveTo>
                <a:cubicBezTo>
                  <a:pt x="13665" y="10175"/>
                  <a:pt x="13944" y="9987"/>
                  <a:pt x="14213" y="9798"/>
                </a:cubicBezTo>
                <a:cubicBezTo>
                  <a:pt x="14387" y="9682"/>
                  <a:pt x="14412" y="9665"/>
                  <a:pt x="14511" y="9599"/>
                </a:cubicBezTo>
              </a:path>
              <a:path w="1093" h="1539">
                <a:moveTo>
                  <a:pt x="13469" y="9103"/>
                </a:moveTo>
                <a:cubicBezTo>
                  <a:pt x="13469" y="9280"/>
                  <a:pt x="13475" y="9452"/>
                  <a:pt x="13444" y="9624"/>
                </a:cubicBezTo>
              </a:path>
              <a:path w="1093" h="1539">
                <a:moveTo>
                  <a:pt x="13742" y="8954"/>
                </a:moveTo>
                <a:cubicBezTo>
                  <a:pt x="13865" y="8930"/>
                  <a:pt x="13955" y="8910"/>
                  <a:pt x="14064" y="8855"/>
                </a:cubicBezTo>
                <a:cubicBezTo>
                  <a:pt x="14087" y="9046"/>
                  <a:pt x="14053" y="9233"/>
                  <a:pt x="14015" y="94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86080" y="3821040"/>
            <a:ext cx="152280" cy="73080"/>
          </a:xfrm>
          <a:custGeom>
            <a:avLst/>
            <a:gdLst/>
            <a:ahLst/>
            <a:rect l="l" t="t" r="r" b="b"/>
            <a:pathLst>
              <a:path w="423" h="200">
                <a:moveTo>
                  <a:pt x="9128" y="10616"/>
                </a:moveTo>
                <a:cubicBezTo>
                  <a:pt x="9269" y="10616"/>
                  <a:pt x="9409" y="10616"/>
                  <a:pt x="9550" y="10616"/>
                </a:cubicBezTo>
              </a:path>
              <a:path w="423" h="200">
                <a:moveTo>
                  <a:pt x="9277" y="10815"/>
                </a:moveTo>
                <a:cubicBezTo>
                  <a:pt x="9343" y="10807"/>
                  <a:pt x="9409" y="10798"/>
                  <a:pt x="9475" y="107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2120" y="3419640"/>
            <a:ext cx="1884600" cy="893520"/>
          </a:xfrm>
          <a:custGeom>
            <a:avLst/>
            <a:gdLst/>
            <a:ahLst/>
            <a:rect l="l" t="t" r="r" b="b"/>
            <a:pathLst>
              <a:path w="5235" h="2482">
                <a:moveTo>
                  <a:pt x="11187" y="9971"/>
                </a:moveTo>
                <a:cubicBezTo>
                  <a:pt x="11090" y="10023"/>
                  <a:pt x="10815" y="10027"/>
                  <a:pt x="10765" y="10071"/>
                </a:cubicBezTo>
                <a:cubicBezTo>
                  <a:pt x="10692" y="10134"/>
                  <a:pt x="10720" y="10334"/>
                  <a:pt x="10716" y="10418"/>
                </a:cubicBezTo>
                <a:cubicBezTo>
                  <a:pt x="10916" y="10312"/>
                  <a:pt x="11117" y="10149"/>
                  <a:pt x="11336" y="10319"/>
                </a:cubicBezTo>
                <a:cubicBezTo>
                  <a:pt x="11352" y="10352"/>
                  <a:pt x="11369" y="10385"/>
                  <a:pt x="11385" y="10418"/>
                </a:cubicBezTo>
                <a:cubicBezTo>
                  <a:pt x="11221" y="10652"/>
                  <a:pt x="11096" y="10626"/>
                  <a:pt x="10840" y="10517"/>
                </a:cubicBezTo>
              </a:path>
              <a:path w="5235" h="2482">
                <a:moveTo>
                  <a:pt x="11881" y="9947"/>
                </a:moveTo>
                <a:cubicBezTo>
                  <a:pt x="11687" y="9947"/>
                  <a:pt x="11590" y="9893"/>
                  <a:pt x="11485" y="10021"/>
                </a:cubicBezTo>
                <a:cubicBezTo>
                  <a:pt x="11485" y="10145"/>
                  <a:pt x="11475" y="10120"/>
                  <a:pt x="11609" y="10120"/>
                </a:cubicBezTo>
                <a:cubicBezTo>
                  <a:pt x="11841" y="10120"/>
                  <a:pt x="11977" y="10178"/>
                  <a:pt x="12129" y="10344"/>
                </a:cubicBezTo>
                <a:cubicBezTo>
                  <a:pt x="11956" y="10437"/>
                  <a:pt x="11908" y="10400"/>
                  <a:pt x="11708" y="10368"/>
                </a:cubicBezTo>
              </a:path>
              <a:path w="5235" h="2482">
                <a:moveTo>
                  <a:pt x="10641" y="10790"/>
                </a:moveTo>
                <a:cubicBezTo>
                  <a:pt x="11112" y="10756"/>
                  <a:pt x="11584" y="10724"/>
                  <a:pt x="12055" y="10691"/>
                </a:cubicBezTo>
                <a:cubicBezTo>
                  <a:pt x="12105" y="10691"/>
                  <a:pt x="12121" y="10691"/>
                  <a:pt x="12154" y="10691"/>
                </a:cubicBezTo>
              </a:path>
              <a:path w="5235" h="2482">
                <a:moveTo>
                  <a:pt x="11063" y="11038"/>
                </a:moveTo>
                <a:cubicBezTo>
                  <a:pt x="11047" y="11215"/>
                  <a:pt x="11102" y="11453"/>
                  <a:pt x="11088" y="11658"/>
                </a:cubicBezTo>
              </a:path>
              <a:path w="5235" h="2482">
                <a:moveTo>
                  <a:pt x="11435" y="11063"/>
                </a:moveTo>
                <a:cubicBezTo>
                  <a:pt x="11464" y="10947"/>
                  <a:pt x="11546" y="10932"/>
                  <a:pt x="11658" y="10889"/>
                </a:cubicBezTo>
                <a:cubicBezTo>
                  <a:pt x="11720" y="11105"/>
                  <a:pt x="11558" y="11264"/>
                  <a:pt x="11435" y="11460"/>
                </a:cubicBezTo>
                <a:cubicBezTo>
                  <a:pt x="11372" y="11565"/>
                  <a:pt x="11355" y="11585"/>
                  <a:pt x="11336" y="11658"/>
                </a:cubicBezTo>
                <a:cubicBezTo>
                  <a:pt x="11393" y="11607"/>
                  <a:pt x="11519" y="11465"/>
                  <a:pt x="11609" y="11509"/>
                </a:cubicBezTo>
                <a:cubicBezTo>
                  <a:pt x="11751" y="11578"/>
                  <a:pt x="11712" y="11659"/>
                  <a:pt x="11881" y="11584"/>
                </a:cubicBezTo>
              </a:path>
              <a:path w="5235" h="2482">
                <a:moveTo>
                  <a:pt x="12750" y="10393"/>
                </a:moveTo>
                <a:cubicBezTo>
                  <a:pt x="12906" y="10562"/>
                  <a:pt x="12998" y="10786"/>
                  <a:pt x="13122" y="10988"/>
                </a:cubicBezTo>
                <a:cubicBezTo>
                  <a:pt x="13130" y="10996"/>
                  <a:pt x="13138" y="11005"/>
                  <a:pt x="13146" y="11013"/>
                </a:cubicBezTo>
              </a:path>
              <a:path w="5235" h="2482">
                <a:moveTo>
                  <a:pt x="13097" y="10393"/>
                </a:moveTo>
                <a:cubicBezTo>
                  <a:pt x="13021" y="10607"/>
                  <a:pt x="12958" y="10791"/>
                  <a:pt x="12849" y="10988"/>
                </a:cubicBezTo>
              </a:path>
              <a:path w="5235" h="2482">
                <a:moveTo>
                  <a:pt x="13419" y="9971"/>
                </a:moveTo>
                <a:cubicBezTo>
                  <a:pt x="13507" y="9897"/>
                  <a:pt x="13817" y="9694"/>
                  <a:pt x="13791" y="9996"/>
                </a:cubicBezTo>
                <a:cubicBezTo>
                  <a:pt x="13779" y="10133"/>
                  <a:pt x="13683" y="10211"/>
                  <a:pt x="13643" y="10170"/>
                </a:cubicBezTo>
                <a:cubicBezTo>
                  <a:pt x="13747" y="10157"/>
                  <a:pt x="14053" y="10189"/>
                  <a:pt x="13816" y="10368"/>
                </a:cubicBezTo>
                <a:cubicBezTo>
                  <a:pt x="13670" y="10417"/>
                  <a:pt x="13623" y="10434"/>
                  <a:pt x="13519" y="10418"/>
                </a:cubicBezTo>
              </a:path>
              <a:path w="5235" h="2482">
                <a:moveTo>
                  <a:pt x="14015" y="9723"/>
                </a:moveTo>
                <a:cubicBezTo>
                  <a:pt x="14052" y="9783"/>
                  <a:pt x="14124" y="10017"/>
                  <a:pt x="14188" y="10021"/>
                </a:cubicBezTo>
                <a:cubicBezTo>
                  <a:pt x="14307" y="9997"/>
                  <a:pt x="14344" y="9991"/>
                  <a:pt x="14412" y="9947"/>
                </a:cubicBezTo>
              </a:path>
              <a:path w="5235" h="2482">
                <a:moveTo>
                  <a:pt x="14288" y="9500"/>
                </a:moveTo>
                <a:cubicBezTo>
                  <a:pt x="14332" y="9805"/>
                  <a:pt x="14353" y="10109"/>
                  <a:pt x="14362" y="10418"/>
                </a:cubicBezTo>
              </a:path>
              <a:path w="5235" h="2482">
                <a:moveTo>
                  <a:pt x="13667" y="10567"/>
                </a:moveTo>
                <a:cubicBezTo>
                  <a:pt x="13990" y="10559"/>
                  <a:pt x="14281" y="10553"/>
                  <a:pt x="14585" y="10443"/>
                </a:cubicBezTo>
              </a:path>
              <a:path w="5235" h="2482">
                <a:moveTo>
                  <a:pt x="13692" y="11038"/>
                </a:moveTo>
                <a:cubicBezTo>
                  <a:pt x="13718" y="11231"/>
                  <a:pt x="13758" y="11414"/>
                  <a:pt x="13767" y="11609"/>
                </a:cubicBezTo>
              </a:path>
              <a:path w="5235" h="2482">
                <a:moveTo>
                  <a:pt x="13990" y="11063"/>
                </a:moveTo>
                <a:cubicBezTo>
                  <a:pt x="14034" y="11175"/>
                  <a:pt x="14050" y="11178"/>
                  <a:pt x="14015" y="11286"/>
                </a:cubicBezTo>
                <a:cubicBezTo>
                  <a:pt x="14146" y="11266"/>
                  <a:pt x="14256" y="11197"/>
                  <a:pt x="14387" y="11162"/>
                </a:cubicBezTo>
                <a:cubicBezTo>
                  <a:pt x="14395" y="11162"/>
                  <a:pt x="14404" y="11162"/>
                  <a:pt x="14412" y="11162"/>
                </a:cubicBezTo>
              </a:path>
              <a:path w="5235" h="2482">
                <a:moveTo>
                  <a:pt x="14312" y="10815"/>
                </a:moveTo>
                <a:cubicBezTo>
                  <a:pt x="14338" y="11062"/>
                  <a:pt x="14388" y="11310"/>
                  <a:pt x="14412" y="11559"/>
                </a:cubicBezTo>
                <a:cubicBezTo>
                  <a:pt x="14412" y="11576"/>
                  <a:pt x="14412" y="11592"/>
                  <a:pt x="14412" y="11609"/>
                </a:cubicBezTo>
              </a:path>
              <a:path w="5235" h="2482">
                <a:moveTo>
                  <a:pt x="12774" y="10641"/>
                </a:moveTo>
                <a:cubicBezTo>
                  <a:pt x="12766" y="10576"/>
                  <a:pt x="12652" y="10424"/>
                  <a:pt x="12700" y="10468"/>
                </a:cubicBezTo>
                <a:cubicBezTo>
                  <a:pt x="12845" y="10601"/>
                  <a:pt x="12926" y="10787"/>
                  <a:pt x="13072" y="10914"/>
                </a:cubicBezTo>
                <a:cubicBezTo>
                  <a:pt x="13169" y="10999"/>
                  <a:pt x="12887" y="10686"/>
                  <a:pt x="12849" y="10641"/>
                </a:cubicBezTo>
                <a:cubicBezTo>
                  <a:pt x="12796" y="10579"/>
                  <a:pt x="12747" y="10470"/>
                  <a:pt x="12700" y="10517"/>
                </a:cubicBezTo>
                <a:cubicBezTo>
                  <a:pt x="12861" y="10690"/>
                  <a:pt x="13026" y="10849"/>
                  <a:pt x="13196" y="11013"/>
                </a:cubicBezTo>
                <a:cubicBezTo>
                  <a:pt x="13313" y="11126"/>
                  <a:pt x="12905" y="10689"/>
                  <a:pt x="12849" y="10641"/>
                </a:cubicBezTo>
                <a:cubicBezTo>
                  <a:pt x="12844" y="10637"/>
                  <a:pt x="12588" y="10350"/>
                  <a:pt x="12750" y="10542"/>
                </a:cubicBezTo>
                <a:cubicBezTo>
                  <a:pt x="12833" y="10634"/>
                  <a:pt x="13291" y="11030"/>
                  <a:pt x="13122" y="10964"/>
                </a:cubicBezTo>
                <a:cubicBezTo>
                  <a:pt x="12998" y="10836"/>
                  <a:pt x="12654" y="10489"/>
                  <a:pt x="12799" y="10592"/>
                </a:cubicBezTo>
                <a:cubicBezTo>
                  <a:pt x="12940" y="10692"/>
                  <a:pt x="13068" y="10845"/>
                  <a:pt x="13196" y="10964"/>
                </a:cubicBezTo>
                <a:cubicBezTo>
                  <a:pt x="13147" y="10905"/>
                  <a:pt x="12722" y="10434"/>
                  <a:pt x="13022" y="10790"/>
                </a:cubicBezTo>
                <a:cubicBezTo>
                  <a:pt x="13187" y="10986"/>
                  <a:pt x="13157" y="10940"/>
                  <a:pt x="12973" y="10765"/>
                </a:cubicBezTo>
                <a:cubicBezTo>
                  <a:pt x="12721" y="10525"/>
                  <a:pt x="13110" y="10817"/>
                  <a:pt x="13171" y="10864"/>
                </a:cubicBezTo>
                <a:cubicBezTo>
                  <a:pt x="13232" y="10911"/>
                  <a:pt x="13120" y="10799"/>
                  <a:pt x="13072" y="10740"/>
                </a:cubicBezTo>
              </a:path>
              <a:path w="5235" h="2482">
                <a:moveTo>
                  <a:pt x="13097" y="10492"/>
                </a:moveTo>
                <a:cubicBezTo>
                  <a:pt x="13132" y="10565"/>
                  <a:pt x="12871" y="10848"/>
                  <a:pt x="12774" y="10964"/>
                </a:cubicBezTo>
                <a:cubicBezTo>
                  <a:pt x="12410" y="11301"/>
                  <a:pt x="12958" y="10734"/>
                  <a:pt x="12973" y="10716"/>
                </a:cubicBezTo>
                <a:cubicBezTo>
                  <a:pt x="13294" y="10317"/>
                  <a:pt x="13225" y="10408"/>
                  <a:pt x="12948" y="10716"/>
                </a:cubicBezTo>
                <a:cubicBezTo>
                  <a:pt x="12823" y="10855"/>
                  <a:pt x="12538" y="11163"/>
                  <a:pt x="12650" y="11013"/>
                </a:cubicBezTo>
                <a:cubicBezTo>
                  <a:pt x="12789" y="10828"/>
                  <a:pt x="12944" y="10665"/>
                  <a:pt x="13097" y="10492"/>
                </a:cubicBezTo>
                <a:cubicBezTo>
                  <a:pt x="13151" y="10438"/>
                  <a:pt x="13163" y="10427"/>
                  <a:pt x="13097" y="10517"/>
                </a:cubicBezTo>
                <a:cubicBezTo>
                  <a:pt x="13013" y="10595"/>
                  <a:pt x="12718" y="10898"/>
                  <a:pt x="12725" y="10889"/>
                </a:cubicBezTo>
                <a:cubicBezTo>
                  <a:pt x="12797" y="10802"/>
                  <a:pt x="13277" y="10203"/>
                  <a:pt x="12998" y="10567"/>
                </a:cubicBezTo>
                <a:cubicBezTo>
                  <a:pt x="12920" y="10664"/>
                  <a:pt x="12902" y="10674"/>
                  <a:pt x="12874" y="10740"/>
                </a:cubicBezTo>
              </a:path>
              <a:path w="5235" h="2482">
                <a:moveTo>
                  <a:pt x="11063" y="11584"/>
                </a:moveTo>
                <a:cubicBezTo>
                  <a:pt x="11319" y="11354"/>
                  <a:pt x="11562" y="11187"/>
                  <a:pt x="11857" y="11013"/>
                </a:cubicBezTo>
              </a:path>
              <a:path w="5235" h="2482">
                <a:moveTo>
                  <a:pt x="10418" y="11237"/>
                </a:moveTo>
                <a:cubicBezTo>
                  <a:pt x="10363" y="11385"/>
                  <a:pt x="10340" y="11574"/>
                  <a:pt x="10368" y="11733"/>
                </a:cubicBezTo>
                <a:cubicBezTo>
                  <a:pt x="10411" y="11860"/>
                  <a:pt x="10415" y="11891"/>
                  <a:pt x="10468" y="11956"/>
                </a:cubicBezTo>
                <a:cubicBezTo>
                  <a:pt x="10580" y="11928"/>
                  <a:pt x="10721" y="11826"/>
                  <a:pt x="10740" y="11683"/>
                </a:cubicBezTo>
                <a:cubicBezTo>
                  <a:pt x="10720" y="11622"/>
                  <a:pt x="10722" y="11608"/>
                  <a:pt x="10691" y="11584"/>
                </a:cubicBezTo>
                <a:cubicBezTo>
                  <a:pt x="10540" y="11690"/>
                  <a:pt x="10592" y="11806"/>
                  <a:pt x="10641" y="11981"/>
                </a:cubicBezTo>
              </a:path>
              <a:path w="5235" h="2482">
                <a:moveTo>
                  <a:pt x="15230" y="10716"/>
                </a:moveTo>
                <a:cubicBezTo>
                  <a:pt x="15190" y="10684"/>
                  <a:pt x="15152" y="10664"/>
                  <a:pt x="15106" y="10641"/>
                </a:cubicBezTo>
                <a:cubicBezTo>
                  <a:pt x="15234" y="10641"/>
                  <a:pt x="15352" y="10628"/>
                  <a:pt x="15478" y="10616"/>
                </a:cubicBezTo>
              </a:path>
              <a:path w="5235" h="2482">
                <a:moveTo>
                  <a:pt x="15106" y="10864"/>
                </a:moveTo>
                <a:cubicBezTo>
                  <a:pt x="15279" y="10886"/>
                  <a:pt x="15428" y="10836"/>
                  <a:pt x="15602" y="1081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37200" y="3527280"/>
            <a:ext cx="623880" cy="303480"/>
          </a:xfrm>
          <a:custGeom>
            <a:avLst/>
            <a:gdLst/>
            <a:ahLst/>
            <a:rect l="l" t="t" r="r" b="b"/>
            <a:pathLst>
              <a:path w="1737" h="844">
                <a:moveTo>
                  <a:pt x="17214" y="10145"/>
                </a:moveTo>
                <a:cubicBezTo>
                  <a:pt x="17233" y="10051"/>
                  <a:pt x="17217" y="9812"/>
                  <a:pt x="17066" y="9798"/>
                </a:cubicBezTo>
                <a:cubicBezTo>
                  <a:pt x="16749" y="9769"/>
                  <a:pt x="16777" y="10131"/>
                  <a:pt x="16842" y="10294"/>
                </a:cubicBezTo>
                <a:cubicBezTo>
                  <a:pt x="17054" y="10178"/>
                  <a:pt x="17084" y="10100"/>
                  <a:pt x="17190" y="9872"/>
                </a:cubicBezTo>
                <a:cubicBezTo>
                  <a:pt x="17180" y="10130"/>
                  <a:pt x="17155" y="10386"/>
                  <a:pt x="17115" y="10641"/>
                </a:cubicBezTo>
              </a:path>
              <a:path w="1737" h="844">
                <a:moveTo>
                  <a:pt x="17537" y="10021"/>
                </a:moveTo>
                <a:cubicBezTo>
                  <a:pt x="17616" y="9935"/>
                  <a:pt x="17676" y="9894"/>
                  <a:pt x="17785" y="9847"/>
                </a:cubicBezTo>
                <a:cubicBezTo>
                  <a:pt x="17769" y="10016"/>
                  <a:pt x="17761" y="10185"/>
                  <a:pt x="17611" y="10220"/>
                </a:cubicBezTo>
                <a:cubicBezTo>
                  <a:pt x="17781" y="10289"/>
                  <a:pt x="17888" y="10447"/>
                  <a:pt x="17636" y="10567"/>
                </a:cubicBezTo>
                <a:cubicBezTo>
                  <a:pt x="17497" y="10633"/>
                  <a:pt x="17440" y="10581"/>
                  <a:pt x="17363" y="10492"/>
                </a:cubicBezTo>
              </a:path>
              <a:path w="1737" h="844">
                <a:moveTo>
                  <a:pt x="18430" y="9897"/>
                </a:moveTo>
                <a:cubicBezTo>
                  <a:pt x="18362" y="9929"/>
                  <a:pt x="18120" y="9961"/>
                  <a:pt x="18107" y="9996"/>
                </a:cubicBezTo>
                <a:cubicBezTo>
                  <a:pt x="18086" y="10105"/>
                  <a:pt x="18083" y="10131"/>
                  <a:pt x="18058" y="10195"/>
                </a:cubicBezTo>
                <a:cubicBezTo>
                  <a:pt x="18156" y="10183"/>
                  <a:pt x="18363" y="10067"/>
                  <a:pt x="18455" y="10145"/>
                </a:cubicBezTo>
                <a:cubicBezTo>
                  <a:pt x="18547" y="10222"/>
                  <a:pt x="18520" y="10422"/>
                  <a:pt x="18405" y="10468"/>
                </a:cubicBezTo>
                <a:cubicBezTo>
                  <a:pt x="18317" y="10503"/>
                  <a:pt x="18233" y="10511"/>
                  <a:pt x="18157" y="1049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89840" y="3786120"/>
            <a:ext cx="108000" cy="81000"/>
          </a:xfrm>
          <a:custGeom>
            <a:avLst/>
            <a:gdLst/>
            <a:ahLst/>
            <a:rect l="l" t="t" r="r" b="b"/>
            <a:pathLst>
              <a:path w="299" h="224">
                <a:moveTo>
                  <a:pt x="19695" y="10517"/>
                </a:moveTo>
                <a:cubicBezTo>
                  <a:pt x="19778" y="10517"/>
                  <a:pt x="19860" y="10517"/>
                  <a:pt x="19943" y="10517"/>
                </a:cubicBezTo>
              </a:path>
              <a:path w="299" h="224">
                <a:moveTo>
                  <a:pt x="19720" y="10740"/>
                </a:moveTo>
                <a:cubicBezTo>
                  <a:pt x="19869" y="10719"/>
                  <a:pt x="19904" y="10717"/>
                  <a:pt x="19993" y="1069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73200" y="4017960"/>
            <a:ext cx="108000" cy="1890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6945" y="11361"/>
                </a:moveTo>
                <a:cubicBezTo>
                  <a:pt x="6904" y="11319"/>
                  <a:pt x="6896" y="11311"/>
                  <a:pt x="6871" y="11286"/>
                </a:cubicBezTo>
                <a:cubicBezTo>
                  <a:pt x="6997" y="11353"/>
                  <a:pt x="7066" y="11407"/>
                  <a:pt x="7169" y="11509"/>
                </a:cubicBezTo>
              </a:path>
              <a:path w="299" h="522">
                <a:moveTo>
                  <a:pt x="7020" y="11162"/>
                </a:moveTo>
                <a:cubicBezTo>
                  <a:pt x="7031" y="11333"/>
                  <a:pt x="7027" y="11487"/>
                  <a:pt x="7020" y="11658"/>
                </a:cubicBezTo>
                <a:cubicBezTo>
                  <a:pt x="7020" y="11666"/>
                  <a:pt x="7020" y="11675"/>
                  <a:pt x="7020" y="1168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39040" y="1446120"/>
            <a:ext cx="741240" cy="1197000"/>
          </a:xfrm>
          <a:custGeom>
            <a:avLst/>
            <a:gdLst/>
            <a:ahLst/>
            <a:rect l="l" t="t" r="r" b="b"/>
            <a:pathLst>
              <a:path w="2060" h="3325">
                <a:moveTo>
                  <a:pt x="21679" y="4018"/>
                </a:moveTo>
                <a:cubicBezTo>
                  <a:pt x="21535" y="4144"/>
                  <a:pt x="21466" y="4177"/>
                  <a:pt x="21282" y="4192"/>
                </a:cubicBezTo>
                <a:cubicBezTo>
                  <a:pt x="21207" y="4198"/>
                  <a:pt x="21214" y="4457"/>
                  <a:pt x="21208" y="4490"/>
                </a:cubicBezTo>
                <a:cubicBezTo>
                  <a:pt x="21200" y="4523"/>
                  <a:pt x="21191" y="4556"/>
                  <a:pt x="21183" y="4589"/>
                </a:cubicBezTo>
                <a:cubicBezTo>
                  <a:pt x="21327" y="4547"/>
                  <a:pt x="21815" y="4388"/>
                  <a:pt x="21779" y="4713"/>
                </a:cubicBezTo>
                <a:cubicBezTo>
                  <a:pt x="21748" y="4996"/>
                  <a:pt x="21471" y="4983"/>
                  <a:pt x="21282" y="5011"/>
                </a:cubicBezTo>
              </a:path>
              <a:path w="2060" h="3325">
                <a:moveTo>
                  <a:pt x="22324" y="4093"/>
                </a:moveTo>
                <a:cubicBezTo>
                  <a:pt x="22258" y="4149"/>
                  <a:pt x="22105" y="4097"/>
                  <a:pt x="22076" y="4118"/>
                </a:cubicBezTo>
                <a:cubicBezTo>
                  <a:pt x="21993" y="4177"/>
                  <a:pt x="21949" y="4377"/>
                  <a:pt x="21927" y="4465"/>
                </a:cubicBezTo>
                <a:cubicBezTo>
                  <a:pt x="22052" y="4440"/>
                  <a:pt x="22239" y="4331"/>
                  <a:pt x="22374" y="4390"/>
                </a:cubicBezTo>
                <a:cubicBezTo>
                  <a:pt x="22709" y="4536"/>
                  <a:pt x="22322" y="4813"/>
                  <a:pt x="22200" y="4887"/>
                </a:cubicBezTo>
              </a:path>
              <a:path w="2060" h="3325">
                <a:moveTo>
                  <a:pt x="20687" y="5407"/>
                </a:moveTo>
                <a:cubicBezTo>
                  <a:pt x="20813" y="5584"/>
                  <a:pt x="20896" y="5704"/>
                  <a:pt x="20960" y="5904"/>
                </a:cubicBezTo>
              </a:path>
              <a:path w="2060" h="3325">
                <a:moveTo>
                  <a:pt x="21034" y="5358"/>
                </a:moveTo>
                <a:cubicBezTo>
                  <a:pt x="20945" y="5547"/>
                  <a:pt x="20864" y="5734"/>
                  <a:pt x="20786" y="5928"/>
                </a:cubicBezTo>
              </a:path>
              <a:path w="2060" h="3325">
                <a:moveTo>
                  <a:pt x="21555" y="5358"/>
                </a:moveTo>
                <a:cubicBezTo>
                  <a:pt x="21596" y="5560"/>
                  <a:pt x="21609" y="5725"/>
                  <a:pt x="21580" y="5928"/>
                </a:cubicBezTo>
              </a:path>
              <a:path w="2060" h="3325">
                <a:moveTo>
                  <a:pt x="22027" y="5333"/>
                </a:moveTo>
                <a:cubicBezTo>
                  <a:pt x="22161" y="5314"/>
                  <a:pt x="22286" y="5288"/>
                  <a:pt x="22423" y="5283"/>
                </a:cubicBezTo>
                <a:cubicBezTo>
                  <a:pt x="22572" y="5277"/>
                  <a:pt x="22440" y="5755"/>
                  <a:pt x="22423" y="5829"/>
                </a:cubicBezTo>
                <a:cubicBezTo>
                  <a:pt x="22388" y="5936"/>
                  <a:pt x="22371" y="5942"/>
                  <a:pt x="22374" y="6003"/>
                </a:cubicBezTo>
              </a:path>
              <a:path w="2060" h="3325">
                <a:moveTo>
                  <a:pt x="20662" y="6524"/>
                </a:moveTo>
                <a:cubicBezTo>
                  <a:pt x="20979" y="6462"/>
                  <a:pt x="21281" y="6414"/>
                  <a:pt x="21605" y="6375"/>
                </a:cubicBezTo>
                <a:cubicBezTo>
                  <a:pt x="21967" y="6332"/>
                  <a:pt x="22343" y="6325"/>
                  <a:pt x="22696" y="6251"/>
                </a:cubicBezTo>
                <a:cubicBezTo>
                  <a:pt x="22704" y="6251"/>
                  <a:pt x="22713" y="6251"/>
                  <a:pt x="22721" y="6251"/>
                </a:cubicBezTo>
              </a:path>
              <a:path w="2060" h="3325">
                <a:moveTo>
                  <a:pt x="21208" y="6896"/>
                </a:moveTo>
                <a:cubicBezTo>
                  <a:pt x="21222" y="6742"/>
                  <a:pt x="21174" y="6669"/>
                  <a:pt x="21034" y="6623"/>
                </a:cubicBezTo>
                <a:cubicBezTo>
                  <a:pt x="21001" y="6682"/>
                  <a:pt x="20836" y="6928"/>
                  <a:pt x="20985" y="6921"/>
                </a:cubicBezTo>
                <a:cubicBezTo>
                  <a:pt x="21090" y="6916"/>
                  <a:pt x="21125" y="6793"/>
                  <a:pt x="21183" y="6722"/>
                </a:cubicBezTo>
                <a:cubicBezTo>
                  <a:pt x="21148" y="6935"/>
                  <a:pt x="21113" y="7140"/>
                  <a:pt x="21034" y="7342"/>
                </a:cubicBezTo>
              </a:path>
              <a:path w="2060" h="3325">
                <a:moveTo>
                  <a:pt x="21481" y="6722"/>
                </a:moveTo>
                <a:cubicBezTo>
                  <a:pt x="21568" y="6664"/>
                  <a:pt x="21605" y="6639"/>
                  <a:pt x="21704" y="6623"/>
                </a:cubicBezTo>
                <a:cubicBezTo>
                  <a:pt x="21712" y="6705"/>
                  <a:pt x="21671" y="6939"/>
                  <a:pt x="21530" y="6945"/>
                </a:cubicBezTo>
                <a:cubicBezTo>
                  <a:pt x="21547" y="6929"/>
                  <a:pt x="21563" y="6912"/>
                  <a:pt x="21580" y="6896"/>
                </a:cubicBezTo>
                <a:cubicBezTo>
                  <a:pt x="21758" y="6921"/>
                  <a:pt x="21787" y="7039"/>
                  <a:pt x="21605" y="7144"/>
                </a:cubicBezTo>
                <a:cubicBezTo>
                  <a:pt x="21514" y="7167"/>
                  <a:pt x="21488" y="7173"/>
                  <a:pt x="21431" y="7193"/>
                </a:cubicBezTo>
              </a:path>
              <a:path w="2060" h="3325">
                <a:moveTo>
                  <a:pt x="22399" y="6648"/>
                </a:moveTo>
                <a:cubicBezTo>
                  <a:pt x="22360" y="6657"/>
                  <a:pt x="22105" y="6645"/>
                  <a:pt x="22101" y="6648"/>
                </a:cubicBezTo>
                <a:cubicBezTo>
                  <a:pt x="22076" y="6668"/>
                  <a:pt x="22040" y="6855"/>
                  <a:pt x="22027" y="6896"/>
                </a:cubicBezTo>
                <a:cubicBezTo>
                  <a:pt x="22182" y="6840"/>
                  <a:pt x="22257" y="6793"/>
                  <a:pt x="22399" y="6871"/>
                </a:cubicBezTo>
                <a:cubicBezTo>
                  <a:pt x="22324" y="7063"/>
                  <a:pt x="22333" y="7038"/>
                  <a:pt x="22126" y="709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65920" y="4232160"/>
            <a:ext cx="2143080" cy="1536840"/>
          </a:xfrm>
          <a:custGeom>
            <a:avLst/>
            <a:gdLst/>
            <a:ahLst/>
            <a:rect l="l" t="t" r="r" b="b"/>
            <a:pathLst>
              <a:path w="5954" h="4268">
                <a:moveTo>
                  <a:pt x="18802" y="15032"/>
                </a:moveTo>
                <a:cubicBezTo>
                  <a:pt x="18819" y="15032"/>
                  <a:pt x="18835" y="15032"/>
                  <a:pt x="18852" y="15032"/>
                </a:cubicBezTo>
                <a:cubicBezTo>
                  <a:pt x="18794" y="14724"/>
                  <a:pt x="18589" y="14824"/>
                  <a:pt x="18430" y="15081"/>
                </a:cubicBezTo>
                <a:cubicBezTo>
                  <a:pt x="18092" y="15628"/>
                  <a:pt x="18705" y="15125"/>
                  <a:pt x="18802" y="15007"/>
                </a:cubicBezTo>
                <a:cubicBezTo>
                  <a:pt x="18827" y="14974"/>
                  <a:pt x="18851" y="14941"/>
                  <a:pt x="18876" y="14908"/>
                </a:cubicBezTo>
                <a:cubicBezTo>
                  <a:pt x="18821" y="15236"/>
                  <a:pt x="18700" y="15534"/>
                  <a:pt x="18604" y="15850"/>
                </a:cubicBezTo>
                <a:cubicBezTo>
                  <a:pt x="18596" y="15891"/>
                  <a:pt x="18587" y="15933"/>
                  <a:pt x="18579" y="15974"/>
                </a:cubicBezTo>
              </a:path>
              <a:path w="5954" h="4268">
                <a:moveTo>
                  <a:pt x="19100" y="14982"/>
                </a:moveTo>
                <a:cubicBezTo>
                  <a:pt x="19252" y="14928"/>
                  <a:pt x="19270" y="14928"/>
                  <a:pt x="19422" y="14982"/>
                </a:cubicBezTo>
                <a:cubicBezTo>
                  <a:pt x="19330" y="15165"/>
                  <a:pt x="19270" y="15233"/>
                  <a:pt x="19100" y="15354"/>
                </a:cubicBezTo>
                <a:cubicBezTo>
                  <a:pt x="19341" y="15384"/>
                  <a:pt x="19511" y="15510"/>
                  <a:pt x="19248" y="15726"/>
                </a:cubicBezTo>
                <a:cubicBezTo>
                  <a:pt x="18940" y="15979"/>
                  <a:pt x="18845" y="15713"/>
                  <a:pt x="18926" y="15478"/>
                </a:cubicBezTo>
              </a:path>
              <a:path w="5954" h="4268">
                <a:moveTo>
                  <a:pt x="20340" y="14784"/>
                </a:moveTo>
                <a:cubicBezTo>
                  <a:pt x="20274" y="14791"/>
                  <a:pt x="19949" y="14802"/>
                  <a:pt x="19918" y="14833"/>
                </a:cubicBezTo>
                <a:cubicBezTo>
                  <a:pt x="19874" y="14990"/>
                  <a:pt x="19861" y="15030"/>
                  <a:pt x="19844" y="15131"/>
                </a:cubicBezTo>
                <a:cubicBezTo>
                  <a:pt x="20034" y="15149"/>
                  <a:pt x="20176" y="15114"/>
                  <a:pt x="20389" y="15180"/>
                </a:cubicBezTo>
                <a:cubicBezTo>
                  <a:pt x="20402" y="15493"/>
                  <a:pt x="20214" y="15758"/>
                  <a:pt x="19819" y="15701"/>
                </a:cubicBezTo>
                <a:cubicBezTo>
                  <a:pt x="19761" y="15668"/>
                  <a:pt x="19703" y="15635"/>
                  <a:pt x="19645" y="15602"/>
                </a:cubicBezTo>
              </a:path>
              <a:path w="5954" h="4268">
                <a:moveTo>
                  <a:pt x="18058" y="16024"/>
                </a:moveTo>
                <a:cubicBezTo>
                  <a:pt x="18012" y="15689"/>
                  <a:pt x="18107" y="15392"/>
                  <a:pt x="18132" y="15056"/>
                </a:cubicBezTo>
                <a:cubicBezTo>
                  <a:pt x="18146" y="14861"/>
                  <a:pt x="18115" y="14800"/>
                  <a:pt x="18083" y="14635"/>
                </a:cubicBezTo>
                <a:cubicBezTo>
                  <a:pt x="18477" y="14635"/>
                  <a:pt x="18895" y="14611"/>
                  <a:pt x="19298" y="14585"/>
                </a:cubicBezTo>
                <a:cubicBezTo>
                  <a:pt x="20106" y="14532"/>
                  <a:pt x="20905" y="14461"/>
                  <a:pt x="21704" y="14337"/>
                </a:cubicBezTo>
                <a:cubicBezTo>
                  <a:pt x="21712" y="14337"/>
                  <a:pt x="21721" y="14337"/>
                  <a:pt x="21729" y="14337"/>
                </a:cubicBezTo>
              </a:path>
              <a:path w="5954" h="4268">
                <a:moveTo>
                  <a:pt x="17115" y="14932"/>
                </a:moveTo>
                <a:cubicBezTo>
                  <a:pt x="16930" y="14814"/>
                  <a:pt x="16650" y="14903"/>
                  <a:pt x="16570" y="15156"/>
                </a:cubicBezTo>
                <a:cubicBezTo>
                  <a:pt x="16531" y="15280"/>
                  <a:pt x="16875" y="15436"/>
                  <a:pt x="16892" y="15602"/>
                </a:cubicBezTo>
                <a:cubicBezTo>
                  <a:pt x="16800" y="15672"/>
                  <a:pt x="16775" y="15697"/>
                  <a:pt x="16694" y="15677"/>
                </a:cubicBezTo>
                <a:cubicBezTo>
                  <a:pt x="16793" y="15410"/>
                  <a:pt x="17013" y="15199"/>
                  <a:pt x="17115" y="14932"/>
                </a:cubicBezTo>
                <a:cubicBezTo>
                  <a:pt x="17099" y="14949"/>
                  <a:pt x="17082" y="14965"/>
                  <a:pt x="17066" y="14982"/>
                </a:cubicBezTo>
              </a:path>
              <a:path w="5954" h="4268">
                <a:moveTo>
                  <a:pt x="17314" y="15007"/>
                </a:moveTo>
                <a:cubicBezTo>
                  <a:pt x="17269" y="15119"/>
                  <a:pt x="17231" y="15212"/>
                  <a:pt x="17214" y="15329"/>
                </a:cubicBezTo>
                <a:cubicBezTo>
                  <a:pt x="17382" y="15315"/>
                  <a:pt x="17524" y="15280"/>
                  <a:pt x="17686" y="15230"/>
                </a:cubicBezTo>
              </a:path>
              <a:path w="5954" h="4268">
                <a:moveTo>
                  <a:pt x="17711" y="14709"/>
                </a:moveTo>
                <a:cubicBezTo>
                  <a:pt x="17576" y="15094"/>
                  <a:pt x="17463" y="15486"/>
                  <a:pt x="17338" y="15875"/>
                </a:cubicBezTo>
                <a:cubicBezTo>
                  <a:pt x="17315" y="15946"/>
                  <a:pt x="17305" y="15973"/>
                  <a:pt x="17363" y="15900"/>
                </a:cubicBezTo>
              </a:path>
              <a:path w="5954" h="4268">
                <a:moveTo>
                  <a:pt x="19422" y="13643"/>
                </a:moveTo>
                <a:cubicBezTo>
                  <a:pt x="19495" y="13642"/>
                  <a:pt x="19375" y="14041"/>
                  <a:pt x="19348" y="14139"/>
                </a:cubicBezTo>
                <a:cubicBezTo>
                  <a:pt x="19331" y="14189"/>
                  <a:pt x="19315" y="14238"/>
                  <a:pt x="19298" y="14288"/>
                </a:cubicBezTo>
              </a:path>
              <a:path w="5954" h="4268">
                <a:moveTo>
                  <a:pt x="20017" y="13419"/>
                </a:moveTo>
                <a:cubicBezTo>
                  <a:pt x="19991" y="13644"/>
                  <a:pt x="19918" y="13862"/>
                  <a:pt x="19893" y="14089"/>
                </a:cubicBezTo>
                <a:cubicBezTo>
                  <a:pt x="19893" y="14114"/>
                  <a:pt x="19893" y="14138"/>
                  <a:pt x="19893" y="14163"/>
                </a:cubicBezTo>
              </a:path>
              <a:path w="5954" h="4268">
                <a:moveTo>
                  <a:pt x="20935" y="12005"/>
                </a:moveTo>
                <a:cubicBezTo>
                  <a:pt x="20897" y="12189"/>
                  <a:pt x="20859" y="12369"/>
                  <a:pt x="20811" y="12551"/>
                </a:cubicBezTo>
              </a:path>
              <a:path w="5954" h="4268">
                <a:moveTo>
                  <a:pt x="21208" y="11906"/>
                </a:moveTo>
                <a:cubicBezTo>
                  <a:pt x="21208" y="12136"/>
                  <a:pt x="21165" y="12326"/>
                  <a:pt x="21134" y="12551"/>
                </a:cubicBezTo>
                <a:cubicBezTo>
                  <a:pt x="21134" y="12568"/>
                  <a:pt x="21134" y="12584"/>
                  <a:pt x="21134" y="12601"/>
                </a:cubicBezTo>
              </a:path>
              <a:path w="5954" h="4268">
                <a:moveTo>
                  <a:pt x="20786" y="12725"/>
                </a:moveTo>
                <a:cubicBezTo>
                  <a:pt x="21029" y="12658"/>
                  <a:pt x="21308" y="12612"/>
                  <a:pt x="21530" y="12502"/>
                </a:cubicBezTo>
              </a:path>
              <a:path w="5954" h="4268">
                <a:moveTo>
                  <a:pt x="20985" y="13097"/>
                </a:moveTo>
                <a:cubicBezTo>
                  <a:pt x="20912" y="13127"/>
                  <a:pt x="20543" y="13288"/>
                  <a:pt x="20638" y="13419"/>
                </a:cubicBezTo>
                <a:cubicBezTo>
                  <a:pt x="20769" y="13599"/>
                  <a:pt x="20852" y="13522"/>
                  <a:pt x="20910" y="13742"/>
                </a:cubicBezTo>
                <a:cubicBezTo>
                  <a:pt x="20877" y="13767"/>
                  <a:pt x="20844" y="13791"/>
                  <a:pt x="20811" y="13816"/>
                </a:cubicBezTo>
                <a:cubicBezTo>
                  <a:pt x="20724" y="13588"/>
                  <a:pt x="20880" y="13426"/>
                  <a:pt x="21010" y="13221"/>
                </a:cubicBezTo>
              </a:path>
              <a:path w="5954" h="4268">
                <a:moveTo>
                  <a:pt x="21183" y="13146"/>
                </a:moveTo>
                <a:cubicBezTo>
                  <a:pt x="21165" y="13256"/>
                  <a:pt x="21158" y="13356"/>
                  <a:pt x="21158" y="13469"/>
                </a:cubicBezTo>
                <a:cubicBezTo>
                  <a:pt x="21282" y="13438"/>
                  <a:pt x="21336" y="13416"/>
                  <a:pt x="21406" y="13345"/>
                </a:cubicBezTo>
              </a:path>
              <a:path w="5954" h="4268">
                <a:moveTo>
                  <a:pt x="21456" y="13022"/>
                </a:moveTo>
                <a:cubicBezTo>
                  <a:pt x="21409" y="13310"/>
                  <a:pt x="21350" y="13600"/>
                  <a:pt x="21332" y="13891"/>
                </a:cubicBezTo>
              </a:path>
              <a:path w="5954" h="4268">
                <a:moveTo>
                  <a:pt x="20563" y="11807"/>
                </a:moveTo>
                <a:cubicBezTo>
                  <a:pt x="20435" y="11781"/>
                  <a:pt x="20302" y="11747"/>
                  <a:pt x="20166" y="11757"/>
                </a:cubicBezTo>
                <a:cubicBezTo>
                  <a:pt x="19943" y="11774"/>
                  <a:pt x="19648" y="11865"/>
                  <a:pt x="19447" y="11956"/>
                </a:cubicBezTo>
                <a:cubicBezTo>
                  <a:pt x="19180" y="12076"/>
                  <a:pt x="18966" y="12261"/>
                  <a:pt x="18802" y="12502"/>
                </a:cubicBezTo>
                <a:cubicBezTo>
                  <a:pt x="18676" y="12688"/>
                  <a:pt x="18517" y="12993"/>
                  <a:pt x="18504" y="13221"/>
                </a:cubicBezTo>
                <a:cubicBezTo>
                  <a:pt x="18492" y="13440"/>
                  <a:pt x="18600" y="13725"/>
                  <a:pt x="18703" y="13915"/>
                </a:cubicBezTo>
                <a:cubicBezTo>
                  <a:pt x="18842" y="14171"/>
                  <a:pt x="19207" y="14367"/>
                  <a:pt x="19472" y="14461"/>
                </a:cubicBezTo>
                <a:cubicBezTo>
                  <a:pt x="19598" y="14506"/>
                  <a:pt x="19739" y="14515"/>
                  <a:pt x="19869" y="14536"/>
                </a:cubicBezTo>
                <a:cubicBezTo>
                  <a:pt x="19987" y="14555"/>
                  <a:pt x="20122" y="14577"/>
                  <a:pt x="20241" y="14585"/>
                </a:cubicBezTo>
                <a:cubicBezTo>
                  <a:pt x="20515" y="14603"/>
                  <a:pt x="20787" y="14565"/>
                  <a:pt x="21059" y="14560"/>
                </a:cubicBezTo>
                <a:cubicBezTo>
                  <a:pt x="21182" y="14558"/>
                  <a:pt x="21262" y="14538"/>
                  <a:pt x="21382" y="14511"/>
                </a:cubicBezTo>
                <a:cubicBezTo>
                  <a:pt x="21630" y="14455"/>
                  <a:pt x="21923" y="14399"/>
                  <a:pt x="22126" y="14238"/>
                </a:cubicBezTo>
                <a:cubicBezTo>
                  <a:pt x="22306" y="14095"/>
                  <a:pt x="22388" y="13903"/>
                  <a:pt x="22448" y="13692"/>
                </a:cubicBezTo>
                <a:cubicBezTo>
                  <a:pt x="22534" y="13391"/>
                  <a:pt x="22523" y="13150"/>
                  <a:pt x="22448" y="12849"/>
                </a:cubicBezTo>
                <a:cubicBezTo>
                  <a:pt x="22395" y="12638"/>
                  <a:pt x="22282" y="12434"/>
                  <a:pt x="22126" y="12278"/>
                </a:cubicBezTo>
                <a:cubicBezTo>
                  <a:pt x="21992" y="12144"/>
                  <a:pt x="21819" y="12085"/>
                  <a:pt x="21654" y="12005"/>
                </a:cubicBezTo>
                <a:cubicBezTo>
                  <a:pt x="21469" y="11915"/>
                  <a:pt x="21236" y="11870"/>
                  <a:pt x="21034" y="11832"/>
                </a:cubicBezTo>
                <a:cubicBezTo>
                  <a:pt x="20832" y="11794"/>
                  <a:pt x="20644" y="11782"/>
                  <a:pt x="20439" y="11782"/>
                </a:cubicBezTo>
                <a:cubicBezTo>
                  <a:pt x="20248" y="11782"/>
                  <a:pt x="20108" y="11810"/>
                  <a:pt x="19943" y="11906"/>
                </a:cubicBezTo>
                <a:cubicBezTo>
                  <a:pt x="19918" y="11923"/>
                  <a:pt x="19894" y="11939"/>
                  <a:pt x="19869" y="1195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you show your stuff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/8 x 3/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1/2 x 4 2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3/4 x 6 8/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 5/7 x 3 21/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t Tick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219320" y="2514600"/>
                <a:ext cx="838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46040" y="36734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219320" y="3733920"/>
                <a:ext cx="1218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446040" y="52387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143000" y="5105520"/>
                <a:ext cx="11430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14400" y="17521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eet C-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1:06:50Z</dcterms:created>
  <dc:creator>Brian McGrath</dc:creator>
  <dc:description/>
  <dc:language>en-US</dc:language>
  <cp:lastModifiedBy>deanne elizabeth mcgrath</cp:lastModifiedBy>
  <dcterms:modified xsi:type="dcterms:W3CDTF">2010-11-03T17:48:31Z</dcterms:modified>
  <cp:revision>2</cp:revision>
  <dc:subject/>
  <dc:title>Warm - up:</dc:title>
</cp:coreProperties>
</file>